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58D-F0C6-4D10-8AE3-4F13E9F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D31-3DA4-4457-B6D8-AF856132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5D7F-F04C-438F-8568-8C188BC0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599F-E65F-497E-93A3-AC7AF3D7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69D-BB6F-4DA9-858F-BBFD5B76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B30-7092-4331-8855-5CB45C7B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A8F-8113-4AD1-83A5-8AC41AE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50D-43DB-4214-A053-EFC3502E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E371-78CF-4589-AD0C-AB15D3E5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1F7-A8F5-42C2-96F6-9CD21970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56A-DDD9-40C0-A995-3580FC1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916-F37F-4FDC-9002-DBCB4939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3DB5-3F7C-4B00-A3FA-7A21F1BE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pa casa de Texco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yúdate con el odómetro de 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rro para que sea más fácil ll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3080" y="458136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uidado al to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l retorno a Texco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0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4:09:54Z</dcterms:created>
  <dc:creator>Omega García</dc:creator>
  <dc:description/>
  <dc:language>en-US</dc:language>
  <cp:lastModifiedBy>Omega García</cp:lastModifiedBy>
  <dcterms:modified xsi:type="dcterms:W3CDTF">2007-05-29T04:13:15Z</dcterms:modified>
  <cp:revision>3</cp:revision>
  <dc:subject/>
  <dc:title>Mapa casa de Texcoco</dc:title>
</cp:coreProperties>
</file>