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E7F-DECE-47D7-A34E-3B0C852B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16E-4F7B-4411-ACD4-AE978F77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E49-9197-42B7-AAED-01EC4817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CBA-F19F-41BE-9CF5-C7F26688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D022-E90F-43F8-ADDB-3C688D69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42B4-9695-4267-934F-7070F471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22A5-5ED3-46D6-864E-FA705E8D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C087-ED6E-45A4-9E82-1F08282B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C0AA-8DB6-47E1-93EE-06A970B6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595E-E3ED-4085-8F40-9D5E200B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662F-D77A-4F50-B7E9-1E4DB149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AC7-F764-4517-9091-AC2DC817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5FFE-5055-4565-A24F-C173466D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46C0-DE83-4990-A989-FE77A886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D45-496C-4EF4-84DB-719673AE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9E5B-91CD-4A4C-997E-A5BAFC0D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3E02-D63C-47B3-91FB-FDDA20EA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FBF-973C-4068-A53D-305C5C06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DAB-AE1A-4A3F-9FBE-9E2D03D4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841-652A-4D95-A416-2248F022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C2C-670C-4301-BFD1-6400CBEF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8DD-8B26-4D0D-B764-BC788170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022-3023-4044-BB20-5500D5D0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144-385A-4C93-B01E-D65321B5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3038-9C80-4D28-90CA-D74B4E632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0BB7-1381-4507-B02C-D79E3ACBE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ypical.jpg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oftentimes.jpg" TargetMode="External"/><Relationship Id="rId2" Type="http://schemas.openxmlformats.org/officeDocument/2006/relationships/hyperlink" Target="file:///oftentimes.jpg" TargetMode="Externa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idlemachine.jpg" TargetMode="External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phasizing Manufacturing Planning and 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up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429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 Different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Stock on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3429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pabilities vary by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4038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Needs Difficult to Forec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sh 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34290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Drive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RP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4038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ea typeface="Arial"/>
                <a:hlinkClick r:id="rId1"/>
              </a:rPr>
              <a:t>Kanban compa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46483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 Inten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2819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ly No Min Stock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42900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ning/Scheduling Dr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al &amp; Labo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P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fety Stock / Drop 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57200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ea typeface="Arial"/>
                <a:hlinkClick r:id="rId1"/>
              </a:rPr>
              <a:t>Increasing Amount of Unplan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   and Unscheduled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819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ea typeface="Arial"/>
                <a:hlinkClick r:id="rId1"/>
              </a:rPr>
              <a:t>Planning Determines 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429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city Levels Vary Hou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P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Stock / Drop 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0292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dle Mach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41148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hine Controller Types V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e Newer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rate from History to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lcome Inno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State of 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4800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arch Before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mental Steps Can Lessen 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60199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easure Often to Check Progr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48769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 Costs to Remain Compet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direct as well as indir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 only what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ize warehou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ize produ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962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ion Floor Lay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ing Setup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veling of Capacity Lo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5715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ing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54100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s what gets built and 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izes produ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lanning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 Whit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ry F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6019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yota Motor 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4267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stic, often second n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876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 product, right place, right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5486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ize produ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6095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minate Wa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unct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al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 Buy-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d Inven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Support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5:41:10Z</dcterms:created>
  <dc:creator>lewimt</dc:creator>
  <dc:description/>
  <dc:language>en-US</dc:language>
  <cp:lastModifiedBy>LewisMT</cp:lastModifiedBy>
  <dcterms:modified xsi:type="dcterms:W3CDTF">2004-04-12T14:02:40Z</dcterms:modified>
  <cp:revision>9</cp:revision>
  <dc:subject/>
  <dc:title>Just In Time</dc:title>
</cp:coreProperties>
</file>