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0DA-8C71-4E6C-9A15-BDA92E83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BD8-9AA0-4AF6-B128-23CFF197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990-AE8C-4AAB-AE81-D3396C40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FC4-25BB-4E9C-A9E7-51B06B6E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6B5-6D7C-4172-9031-0F9CB95D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187-7234-49A9-8E88-E3BFCA56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8AD-DBDC-4D39-A81F-DB7C7389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A2C-B720-4DD0-B227-FB3F441B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6C1-4FD4-4998-9320-F842B1EA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9DC-CE5F-4736-BECB-E22699AA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0D7-72E8-46DF-B4CA-A026411B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939-1AF0-4FF6-ABAB-FB61BF0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CB3C-6DE1-4B8C-A873-0FEE32223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Us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a Mu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R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as a facilitator (not an owner!!) of the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you through the process of formulating and reviewing a use case(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as a consultant to answer any questions or queries you may hav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use c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actors and u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Use Case (Use Case Pro-For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use c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se case captures the interactions between users of the system (actors) and the system itself in order for the primary actor to achieve a discrete go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ingful piece of system functiona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‘what’ not the ‘how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VCR to record TV program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in passe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draw cash from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of us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aboration of requi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clarity of the problem do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the size of 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ize the project and units within the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n easily understandable view for all stakeho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c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that uses or interfaces with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tor may use many use c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se case may interface with many 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ing actors and us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or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are the people who will use the system to enter inform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are the people who will use the system as recipients of inform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other systems that the system will interact wi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ing actors and us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sequences of action into units that are meaningful for the busi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use case list (see examp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ize the use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 case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3581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s the system bound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ly defines what is in scope of the system and what is external to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indicate who initiates inte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724280" y="2286000"/>
          <a:ext cx="376740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286000"/>
                    <a:ext cx="37674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96960" y="958680"/>
          <a:ext cx="7750080" cy="494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958680"/>
                    <a:ext cx="775008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49:37Z</dcterms:created>
  <dc:creator>murrayl</dc:creator>
  <dc:description/>
  <dc:language>en-US</dc:language>
  <cp:lastModifiedBy>murrayl</cp:lastModifiedBy>
  <dcterms:modified xsi:type="dcterms:W3CDTF">2002-04-12T11:46:05Z</dcterms:modified>
  <cp:revision>3</cp:revision>
  <dc:subject/>
  <dc:title>Use Cases Overview</dc:title>
</cp:coreProperties>
</file>