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4B6-7E72-47E1-ACB3-0F1E62EE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DCB-45D9-41F8-9E50-9B411C30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2D6-226F-4323-88CF-9BA9ECED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9FF-BB0F-4D56-AF4A-AECEECE4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0DA-8ECF-4F6A-83AF-FCAA2313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DB9-B6A6-481D-A274-5A01D4B5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928-0657-406C-8D9B-1604B04C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49E-D94F-44BA-9F55-C0B22A94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229-B140-4AC7-87DF-DB0099F7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36B-E992-4D42-BB69-11F9752C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8314-FC32-4F05-8813-F32537A6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D133-6C0C-4FF5-8086-21062E1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DB2-7119-4AAA-9C5B-BE7A266C50A6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990720"/>
            <a:ext cx="61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ff"/>
                </a:solidFill>
                <a:latin typeface="全真綜藝體"/>
                <a:ea typeface="全真綜藝體"/>
              </a:rPr>
              <a:t>六年級  下學期  數學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39625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9900cc"/>
                </a:solidFill>
                <a:latin typeface="全真綜藝體"/>
                <a:ea typeface="全真綜藝體"/>
              </a:rPr>
              <a:t>方位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59040" y="2514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50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59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69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737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533520" cy="38088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1600" y="2514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3360" y="380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82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91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776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101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28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371600"/>
            <a:ext cx="774720" cy="99072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17" y="0"/>
                </a:moveTo>
                <a:cubicBezTo>
                  <a:pt x="226" y="13"/>
                  <a:pt x="230" y="31"/>
                  <a:pt x="243" y="39"/>
                </a:cubicBezTo>
                <a:cubicBezTo>
                  <a:pt x="266" y="53"/>
                  <a:pt x="319" y="64"/>
                  <a:pt x="319" y="64"/>
                </a:cubicBezTo>
                <a:cubicBezTo>
                  <a:pt x="328" y="77"/>
                  <a:pt x="339" y="89"/>
                  <a:pt x="345" y="103"/>
                </a:cubicBezTo>
                <a:cubicBezTo>
                  <a:pt x="356" y="127"/>
                  <a:pt x="370" y="179"/>
                  <a:pt x="370" y="179"/>
                </a:cubicBezTo>
                <a:cubicBezTo>
                  <a:pt x="360" y="262"/>
                  <a:pt x="373" y="301"/>
                  <a:pt x="307" y="345"/>
                </a:cubicBezTo>
                <a:cubicBezTo>
                  <a:pt x="277" y="390"/>
                  <a:pt x="255" y="405"/>
                  <a:pt x="204" y="422"/>
                </a:cubicBezTo>
                <a:cubicBezTo>
                  <a:pt x="162" y="418"/>
                  <a:pt x="118" y="418"/>
                  <a:pt x="77" y="409"/>
                </a:cubicBezTo>
                <a:cubicBezTo>
                  <a:pt x="75" y="408"/>
                  <a:pt x="0" y="371"/>
                  <a:pt x="26" y="345"/>
                </a:cubicBezTo>
                <a:cubicBezTo>
                  <a:pt x="35" y="336"/>
                  <a:pt x="43" y="362"/>
                  <a:pt x="51" y="371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0:32:07Z</dcterms:created>
  <dc:creator>Guest4</dc:creator>
  <dc:description/>
  <dc:language>en-US</dc:language>
  <cp:lastModifiedBy>Lee Hooi Yock</cp:lastModifiedBy>
  <dcterms:modified xsi:type="dcterms:W3CDTF">2004-02-09T14:01:40Z</dcterms:modified>
  <cp:revision>9</cp:revision>
  <dc:subject/>
  <dc:title>無投影片標題</dc:title>
</cp:coreProperties>
</file>