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EF4E-143E-4657-9C3D-8FA299BB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096-4F89-4E5A-AA31-BF1E69A8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CDD-4BDA-4814-8130-8198F0BF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181D-EB3B-4688-ACF9-5D9BA0A1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9AA-27C5-489B-9378-F3916B8E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026B-87B9-43E1-9B0D-9938E786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2F5B-93F3-47E5-9FD1-37D95A90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8EE-ACF9-4E86-BA66-4BEEB81E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6E6-490A-4171-8930-7AF24930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DE1-CB56-4304-BD1C-E09E8183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5B0-59A2-445A-88BE-063454E6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940-ACA4-42F7-A805-98C4E444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D385-0547-4FF6-B054-292F0F395D2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5680" y="990720"/>
            <a:ext cx="612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99ff"/>
                </a:solidFill>
                <a:latin typeface="全真綜藝體"/>
                <a:ea typeface="全真綜藝體"/>
              </a:rPr>
              <a:t>六年級  下學期  數學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8160" y="396252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9900cc"/>
                </a:solidFill>
                <a:latin typeface="全真綜藝體"/>
                <a:ea typeface="全真綜藝體"/>
              </a:rPr>
              <a:t>方位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659040" y="25146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例題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6304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對甲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905120" y="2971800"/>
            <a:ext cx="2057400" cy="2666880"/>
            <a:chOff x="1905120" y="2971800"/>
            <a:chExt cx="2057400" cy="2666880"/>
          </a:xfrm>
        </p:grpSpPr>
        <p:sp>
          <p:nvSpPr>
            <p:cNvPr id="172" name=""/>
            <p:cNvSpPr/>
            <p:nvPr/>
          </p:nvSpPr>
          <p:spPr>
            <a:xfrm>
              <a:off x="1905120" y="434340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95480" y="297180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596960" y="5867280"/>
            <a:ext cx="60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先找出中心點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,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然後畫出方向指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304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對甲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905120" y="2971800"/>
            <a:ext cx="2057400" cy="2666880"/>
            <a:chOff x="1905120" y="2971800"/>
            <a:chExt cx="2057400" cy="2666880"/>
          </a:xfrm>
        </p:grpSpPr>
        <p:sp>
          <p:nvSpPr>
            <p:cNvPr id="181" name=""/>
            <p:cNvSpPr/>
            <p:nvPr/>
          </p:nvSpPr>
          <p:spPr>
            <a:xfrm>
              <a:off x="1905120" y="434340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95480" y="297180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744200" y="5867280"/>
            <a:ext cx="54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2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把中心點和目的地用線連接起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6304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對甲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905120" y="2971800"/>
            <a:ext cx="2057400" cy="2666880"/>
            <a:chOff x="1905120" y="2971800"/>
            <a:chExt cx="2057400" cy="2666880"/>
          </a:xfrm>
        </p:grpSpPr>
        <p:sp>
          <p:nvSpPr>
            <p:cNvPr id="191" name=""/>
            <p:cNvSpPr/>
            <p:nvPr/>
          </p:nvSpPr>
          <p:spPr>
            <a:xfrm>
              <a:off x="1905120" y="434340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95480" y="297180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839600" y="5867280"/>
            <a:ext cx="578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3.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量度向北的直線和藍色線之間的角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7372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505320"/>
            <a:ext cx="533520" cy="380880"/>
          </a:xfrm>
          <a:prstGeom prst="line">
            <a:avLst/>
          </a:prstGeom>
          <a:ln w="572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171600" y="251460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例題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53360" y="3808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對乙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181480" y="533520"/>
            <a:ext cx="2057400" cy="2666880"/>
            <a:chOff x="5181480" y="533520"/>
            <a:chExt cx="2057400" cy="2666880"/>
          </a:xfrm>
        </p:grpSpPr>
        <p:sp>
          <p:nvSpPr>
            <p:cNvPr id="204" name=""/>
            <p:cNvSpPr/>
            <p:nvPr/>
          </p:nvSpPr>
          <p:spPr>
            <a:xfrm>
              <a:off x="5181480" y="190512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71840" y="53352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596960" y="5867280"/>
            <a:ext cx="60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先找出中心點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,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然後畫出方向指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2932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對乙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181480" y="533520"/>
            <a:ext cx="2057400" cy="2666880"/>
            <a:chOff x="5181480" y="533520"/>
            <a:chExt cx="2057400" cy="2666880"/>
          </a:xfrm>
        </p:grpSpPr>
        <p:sp>
          <p:nvSpPr>
            <p:cNvPr id="213" name=""/>
            <p:cNvSpPr/>
            <p:nvPr/>
          </p:nvSpPr>
          <p:spPr>
            <a:xfrm>
              <a:off x="5181480" y="190512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71840" y="53352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744200" y="5867280"/>
            <a:ext cx="54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2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把中心點和目的地用線連接起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37760" y="18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2932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對乙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181480" y="533520"/>
            <a:ext cx="2057400" cy="2666880"/>
            <a:chOff x="5181480" y="533520"/>
            <a:chExt cx="2057400" cy="2666880"/>
          </a:xfrm>
        </p:grpSpPr>
        <p:sp>
          <p:nvSpPr>
            <p:cNvPr id="223" name=""/>
            <p:cNvSpPr/>
            <p:nvPr/>
          </p:nvSpPr>
          <p:spPr>
            <a:xfrm>
              <a:off x="5181480" y="190512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71840" y="53352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57200" y="5867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2286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1371600"/>
            <a:ext cx="774720" cy="990720"/>
          </a:xfrm>
          <a:custGeom>
            <a:avLst/>
            <a:gdLst/>
            <a:ahLst/>
            <a:rect l="l" t="t" r="r" b="b"/>
            <a:pathLst>
              <a:path w="373" h="422">
                <a:moveTo>
                  <a:pt x="217" y="0"/>
                </a:moveTo>
                <a:cubicBezTo>
                  <a:pt x="226" y="13"/>
                  <a:pt x="230" y="31"/>
                  <a:pt x="243" y="39"/>
                </a:cubicBezTo>
                <a:cubicBezTo>
                  <a:pt x="266" y="53"/>
                  <a:pt x="319" y="64"/>
                  <a:pt x="319" y="64"/>
                </a:cubicBezTo>
                <a:cubicBezTo>
                  <a:pt x="328" y="77"/>
                  <a:pt x="339" y="89"/>
                  <a:pt x="345" y="103"/>
                </a:cubicBezTo>
                <a:cubicBezTo>
                  <a:pt x="356" y="127"/>
                  <a:pt x="370" y="179"/>
                  <a:pt x="370" y="179"/>
                </a:cubicBezTo>
                <a:cubicBezTo>
                  <a:pt x="360" y="262"/>
                  <a:pt x="373" y="301"/>
                  <a:pt x="307" y="345"/>
                </a:cubicBezTo>
                <a:cubicBezTo>
                  <a:pt x="277" y="390"/>
                  <a:pt x="255" y="405"/>
                  <a:pt x="204" y="422"/>
                </a:cubicBezTo>
                <a:cubicBezTo>
                  <a:pt x="162" y="418"/>
                  <a:pt x="118" y="418"/>
                  <a:pt x="77" y="409"/>
                </a:cubicBezTo>
                <a:cubicBezTo>
                  <a:pt x="75" y="408"/>
                  <a:pt x="0" y="371"/>
                  <a:pt x="26" y="345"/>
                </a:cubicBezTo>
                <a:cubicBezTo>
                  <a:pt x="35" y="336"/>
                  <a:pt x="43" y="362"/>
                  <a:pt x="51" y="371"/>
                </a:cubicBezTo>
              </a:path>
            </a:pathLst>
          </a:custGeom>
          <a:noFill/>
          <a:ln w="38160">
            <a:solidFill>
              <a:srgbClr val="9900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39600" y="5867280"/>
            <a:ext cx="578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3.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量度向北的直線和藍色線之間的角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4038480"/>
            <a:ext cx="40766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標楷體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A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點的方位角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標楷體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B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點的方位角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標楷體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C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點的方位角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標楷體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D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點的方位角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標楷體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E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點的方位角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380988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06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95280" y="304920"/>
          <a:ext cx="364824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920"/>
                    <a:ext cx="3648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638680" y="609480"/>
            <a:ext cx="2819520" cy="3194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已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ＮＯＡ＝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60</a:t>
            </a: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ＡＯＢ＝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45</a:t>
            </a: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ＢＯＣ＝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35</a:t>
            </a: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ＣＯＤ＝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75</a:t>
            </a: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ＤＯＥ＝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85</a:t>
            </a: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34340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105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480060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14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25780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215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579132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30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27640" y="4005360"/>
            <a:ext cx="194472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以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點為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半圓規1" descr=""/>
          <p:cNvPicPr/>
          <p:nvPr/>
        </p:nvPicPr>
        <p:blipFill>
          <a:blip r:embed="rId1"/>
          <a:stretch/>
        </p:blipFill>
        <p:spPr>
          <a:xfrm>
            <a:off x="4356000" y="687240"/>
            <a:ext cx="3111480" cy="552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960600" y="304920"/>
            <a:ext cx="1570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01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36920" y="5410080"/>
            <a:ext cx="155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0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8458200" y="2619360"/>
            <a:ext cx="457200" cy="1352520"/>
            <a:chOff x="8458200" y="2619360"/>
            <a:chExt cx="457200" cy="1352520"/>
          </a:xfrm>
        </p:grpSpPr>
        <p:sp>
          <p:nvSpPr>
            <p:cNvPr id="244" name=""/>
            <p:cNvSpPr/>
            <p:nvPr/>
          </p:nvSpPr>
          <p:spPr>
            <a:xfrm flipV="1">
              <a:off x="8686800" y="29048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58200" y="342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526240" y="2619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717840" y="0"/>
            <a:ext cx="239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量度方位角的方法</a:t>
            </a: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(1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662120" y="196920"/>
            <a:ext cx="6886440" cy="5824080"/>
            <a:chOff x="1662120" y="196920"/>
            <a:chExt cx="6886440" cy="5824080"/>
          </a:xfrm>
        </p:grpSpPr>
        <p:grpSp>
          <p:nvGrpSpPr>
            <p:cNvPr id="249" name=""/>
            <p:cNvGrpSpPr/>
            <p:nvPr/>
          </p:nvGrpSpPr>
          <p:grpSpPr>
            <a:xfrm>
              <a:off x="2139480" y="1008000"/>
              <a:ext cx="5181840" cy="4876920"/>
              <a:chOff x="2139480" y="1008000"/>
              <a:chExt cx="5181840" cy="4876920"/>
            </a:xfrm>
          </p:grpSpPr>
          <p:sp>
            <p:nvSpPr>
              <p:cNvPr id="250" name=""/>
              <p:cNvSpPr/>
              <p:nvPr/>
            </p:nvSpPr>
            <p:spPr>
              <a:xfrm flipH="1">
                <a:off x="2139480" y="3415320"/>
                <a:ext cx="2448360" cy="22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96720" y="3415320"/>
                <a:ext cx="5124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88200" y="1008000"/>
                <a:ext cx="0" cy="48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662120" y="5378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3400" y="3429000"/>
              <a:ext cx="3429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62920" y="4311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587480" y="750240"/>
              <a:ext cx="924480" cy="26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00600" y="196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84480" y="2862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3177360" y="1003680"/>
              <a:ext cx="1417680" cy="24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87400" y="565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268520" y="380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57600" y="1905120"/>
            <a:ext cx="114300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Rockwell Extra Bold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Rockwell Extra Bold"/>
                <a:ea typeface="文鼎粗隸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SimHei"/>
              </a:rPr>
              <a:t>　　　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昨天我到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SimHei"/>
                <a:ea typeface="SimHei"/>
              </a:rPr>
              <a:t>大埔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公園旅行，經過金魚池，我把它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</a:rPr>
              <a:t>　　　　　　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的位置記錄下來。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T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代表金魚池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</a:rPr>
              <a:t>，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P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代表停車場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371600"/>
            <a:ext cx="89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00"/>
                </a:solidFill>
                <a:latin typeface="Times New Roman"/>
                <a:ea typeface="標楷體"/>
              </a:rPr>
              <a:t>在橫線上填寫方向的名稱，並在（　）內填寫各方向英文簡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29718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64000" y="3716280"/>
            <a:ext cx="24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5181480"/>
            <a:ext cx="24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5105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181480"/>
            <a:ext cx="24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733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2421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2438280"/>
            <a:ext cx="24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2362320"/>
            <a:ext cx="76320" cy="7596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Gill Sans Ultra Bold"/>
                <a:ea typeface="華康POP1體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Gill Sans Ultra Bold"/>
                <a:ea typeface="華康POP1體"/>
              </a:rPr>
              <a:t>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24360" y="364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371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東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50846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東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西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2349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西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32720" y="3716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733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59640" y="2421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Ｎ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5157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Ｓ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5181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Ｓ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84360" y="2421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Ｎ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2895480"/>
            <a:ext cx="2361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2895480"/>
            <a:ext cx="23619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048120" y="2895480"/>
            <a:ext cx="23619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40384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19112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半圓規" descr=""/>
          <p:cNvPicPr/>
          <p:nvPr/>
        </p:nvPicPr>
        <p:blipFill>
          <a:blip r:embed="rId1"/>
          <a:stretch/>
        </p:blipFill>
        <p:spPr>
          <a:xfrm>
            <a:off x="2349360" y="1268280"/>
            <a:ext cx="2414880" cy="428652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1662120" y="196920"/>
            <a:ext cx="6886440" cy="5824080"/>
            <a:chOff x="1662120" y="196920"/>
            <a:chExt cx="6886440" cy="5824080"/>
          </a:xfrm>
        </p:grpSpPr>
        <p:grpSp>
          <p:nvGrpSpPr>
            <p:cNvPr id="264" name=""/>
            <p:cNvGrpSpPr/>
            <p:nvPr/>
          </p:nvGrpSpPr>
          <p:grpSpPr>
            <a:xfrm>
              <a:off x="2139480" y="1008000"/>
              <a:ext cx="5181840" cy="4876920"/>
              <a:chOff x="2139480" y="1008000"/>
              <a:chExt cx="5181840" cy="487692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2139480" y="3415320"/>
                <a:ext cx="2448360" cy="22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96720" y="3415320"/>
                <a:ext cx="5124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88200" y="1008000"/>
                <a:ext cx="0" cy="48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1662120" y="5378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13400" y="3429000"/>
              <a:ext cx="3429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62920" y="4311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4587480" y="750240"/>
              <a:ext cx="924480" cy="26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00600" y="196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84480" y="2862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3177360" y="1003680"/>
              <a:ext cx="1417680" cy="24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87400" y="565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542520" y="1143000"/>
            <a:ext cx="175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8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r>
              <a:rPr b="0" lang="zh-TW" sz="28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+ 15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=33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8480" y="4143240"/>
            <a:ext cx="161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8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 + 47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=227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8458200" y="2619360"/>
            <a:ext cx="457200" cy="1352520"/>
            <a:chOff x="8458200" y="2619360"/>
            <a:chExt cx="457200" cy="1352520"/>
          </a:xfrm>
        </p:grpSpPr>
        <p:sp>
          <p:nvSpPr>
            <p:cNvPr id="279" name=""/>
            <p:cNvSpPr/>
            <p:nvPr/>
          </p:nvSpPr>
          <p:spPr>
            <a:xfrm flipV="1">
              <a:off x="8686800" y="29048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58200" y="342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526240" y="2619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18200" y="0"/>
            <a:ext cx="241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量度方位角的方法</a:t>
            </a: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(1b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4840" y="457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圓規" descr=""/>
          <p:cNvPicPr/>
          <p:nvPr/>
        </p:nvPicPr>
        <p:blipFill>
          <a:blip r:embed="rId1"/>
          <a:stretch/>
        </p:blipFill>
        <p:spPr>
          <a:xfrm>
            <a:off x="1851120" y="954000"/>
            <a:ext cx="5440320" cy="498312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1662120" y="196920"/>
            <a:ext cx="6886440" cy="5824080"/>
            <a:chOff x="1662120" y="196920"/>
            <a:chExt cx="6886440" cy="5824080"/>
          </a:xfrm>
        </p:grpSpPr>
        <p:grpSp>
          <p:nvGrpSpPr>
            <p:cNvPr id="286" name=""/>
            <p:cNvGrpSpPr/>
            <p:nvPr/>
          </p:nvGrpSpPr>
          <p:grpSpPr>
            <a:xfrm>
              <a:off x="2139480" y="1008000"/>
              <a:ext cx="5181840" cy="4876920"/>
              <a:chOff x="2139480" y="1008000"/>
              <a:chExt cx="5181840" cy="4876920"/>
            </a:xfrm>
          </p:grpSpPr>
          <p:sp>
            <p:nvSpPr>
              <p:cNvPr id="287" name=""/>
              <p:cNvSpPr/>
              <p:nvPr/>
            </p:nvSpPr>
            <p:spPr>
              <a:xfrm flipH="1">
                <a:off x="2139480" y="3415320"/>
                <a:ext cx="2448360" cy="22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96720" y="3415320"/>
                <a:ext cx="5124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588200" y="1008000"/>
                <a:ext cx="0" cy="48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662120" y="5378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13400" y="3429000"/>
              <a:ext cx="3429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62920" y="4311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4587480" y="750240"/>
              <a:ext cx="924480" cy="26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00600" y="196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84480" y="2862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3177360" y="1003680"/>
              <a:ext cx="1417680" cy="24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87400" y="565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960600" y="380880"/>
            <a:ext cx="1570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01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60600" y="5334120"/>
            <a:ext cx="155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0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9800" y="1066680"/>
            <a:ext cx="1570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33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4724280"/>
            <a:ext cx="2216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227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8458200" y="2619360"/>
            <a:ext cx="457200" cy="1352520"/>
            <a:chOff x="8458200" y="2619360"/>
            <a:chExt cx="457200" cy="1352520"/>
          </a:xfrm>
        </p:grpSpPr>
        <p:sp>
          <p:nvSpPr>
            <p:cNvPr id="303" name=""/>
            <p:cNvSpPr/>
            <p:nvPr/>
          </p:nvSpPr>
          <p:spPr>
            <a:xfrm flipV="1">
              <a:off x="8686800" y="29048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58200" y="342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526240" y="2619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718200" y="0"/>
            <a:ext cx="223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量度方位角的方法</a:t>
            </a: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44840" y="457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 flipV="1">
            <a:off x="2819520" y="13716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819520" y="1600200"/>
            <a:ext cx="1218960" cy="3200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3632040"/>
            <a:ext cx="380880" cy="177840"/>
          </a:xfrm>
          <a:custGeom>
            <a:avLst/>
            <a:gdLst/>
            <a:ahLst/>
            <a:rect l="l" t="t" r="r" b="b"/>
            <a:pathLst>
              <a:path w="240" h="112">
                <a:moveTo>
                  <a:pt x="0" y="16"/>
                </a:moveTo>
                <a:cubicBezTo>
                  <a:pt x="28" y="8"/>
                  <a:pt x="56" y="0"/>
                  <a:pt x="96" y="16"/>
                </a:cubicBezTo>
                <a:cubicBezTo>
                  <a:pt x="136" y="32"/>
                  <a:pt x="188" y="72"/>
                  <a:pt x="240" y="11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53560" y="762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7396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77440" y="1488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62520" y="1523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41960" y="3656160"/>
            <a:ext cx="25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在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02600" y="41148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033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 flipV="1">
            <a:off x="2819520" y="1371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295280" y="3886200"/>
            <a:ext cx="152424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6688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53560" y="762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40440" y="350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9880" y="5181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19320" y="4952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41600" y="3656160"/>
            <a:ext cx="25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在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02600" y="41911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37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38280" y="3581280"/>
            <a:ext cx="762120" cy="76212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240" y="0"/>
                </a:moveTo>
                <a:cubicBezTo>
                  <a:pt x="292" y="8"/>
                  <a:pt x="344" y="16"/>
                  <a:pt x="384" y="48"/>
                </a:cubicBezTo>
                <a:cubicBezTo>
                  <a:pt x="424" y="80"/>
                  <a:pt x="480" y="136"/>
                  <a:pt x="480" y="192"/>
                </a:cubicBezTo>
                <a:cubicBezTo>
                  <a:pt x="480" y="248"/>
                  <a:pt x="424" y="336"/>
                  <a:pt x="384" y="384"/>
                </a:cubicBezTo>
                <a:cubicBezTo>
                  <a:pt x="344" y="432"/>
                  <a:pt x="304" y="480"/>
                  <a:pt x="240" y="480"/>
                </a:cubicBezTo>
                <a:cubicBezTo>
                  <a:pt x="176" y="480"/>
                  <a:pt x="88" y="432"/>
                  <a:pt x="0" y="38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H="1">
            <a:off x="1218960" y="31240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809520" y="1447920"/>
            <a:ext cx="1600200" cy="1676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8440" y="2895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8836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64520" y="990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4120" y="1371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88960" y="4876920"/>
            <a:ext cx="25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在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02600" y="54864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135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63760" y="2476440"/>
            <a:ext cx="1003320" cy="647640"/>
          </a:xfrm>
          <a:custGeom>
            <a:avLst/>
            <a:gdLst/>
            <a:ahLst/>
            <a:rect l="l" t="t" r="r" b="b"/>
            <a:pathLst>
              <a:path w="632" h="408">
                <a:moveTo>
                  <a:pt x="8" y="408"/>
                </a:moveTo>
                <a:cubicBezTo>
                  <a:pt x="4" y="404"/>
                  <a:pt x="0" y="400"/>
                  <a:pt x="8" y="360"/>
                </a:cubicBezTo>
                <a:cubicBezTo>
                  <a:pt x="16" y="320"/>
                  <a:pt x="16" y="224"/>
                  <a:pt x="56" y="168"/>
                </a:cubicBezTo>
                <a:cubicBezTo>
                  <a:pt x="96" y="112"/>
                  <a:pt x="176" y="48"/>
                  <a:pt x="248" y="24"/>
                </a:cubicBezTo>
                <a:cubicBezTo>
                  <a:pt x="320" y="0"/>
                  <a:pt x="424" y="8"/>
                  <a:pt x="488" y="24"/>
                </a:cubicBezTo>
                <a:cubicBezTo>
                  <a:pt x="552" y="40"/>
                  <a:pt x="592" y="80"/>
                  <a:pt x="632" y="12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 flipV="1">
            <a:off x="1905120" y="3048120"/>
            <a:ext cx="28191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057040" y="1828800"/>
            <a:ext cx="1066680" cy="2438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1080" y="41148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39560" y="2895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5464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0256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752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89320" y="4876920"/>
            <a:ext cx="25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在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02600" y="54100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315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86080" y="3797280"/>
            <a:ext cx="1054080" cy="1054080"/>
          </a:xfrm>
          <a:custGeom>
            <a:avLst/>
            <a:gdLst/>
            <a:ahLst/>
            <a:rect l="l" t="t" r="r" b="b"/>
            <a:pathLst>
              <a:path w="664" h="664">
                <a:moveTo>
                  <a:pt x="600" y="200"/>
                </a:moveTo>
                <a:cubicBezTo>
                  <a:pt x="632" y="284"/>
                  <a:pt x="664" y="368"/>
                  <a:pt x="648" y="440"/>
                </a:cubicBezTo>
                <a:cubicBezTo>
                  <a:pt x="632" y="512"/>
                  <a:pt x="584" y="600"/>
                  <a:pt x="504" y="632"/>
                </a:cubicBezTo>
                <a:cubicBezTo>
                  <a:pt x="424" y="664"/>
                  <a:pt x="248" y="664"/>
                  <a:pt x="168" y="632"/>
                </a:cubicBezTo>
                <a:cubicBezTo>
                  <a:pt x="88" y="600"/>
                  <a:pt x="48" y="504"/>
                  <a:pt x="24" y="440"/>
                </a:cubicBezTo>
                <a:cubicBezTo>
                  <a:pt x="0" y="376"/>
                  <a:pt x="0" y="312"/>
                  <a:pt x="24" y="248"/>
                </a:cubicBezTo>
                <a:cubicBezTo>
                  <a:pt x="48" y="184"/>
                  <a:pt x="120" y="96"/>
                  <a:pt x="168" y="56"/>
                </a:cubicBezTo>
                <a:cubicBezTo>
                  <a:pt x="216" y="16"/>
                  <a:pt x="264" y="16"/>
                  <a:pt x="312" y="8"/>
                </a:cubicBezTo>
                <a:cubicBezTo>
                  <a:pt x="360" y="0"/>
                  <a:pt x="408" y="4"/>
                  <a:pt x="456" y="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604520" y="676440"/>
            <a:ext cx="472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在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的方位角是否相等於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的方位角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604520" y="676440"/>
            <a:ext cx="472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在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的方位角是否相等於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的方位角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22240" y="194616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不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6873840" y="17870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035760" y="3540240"/>
            <a:ext cx="838080" cy="2133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21560" y="3540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12800" y="155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13880" y="5673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124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59440" y="55976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05720" y="3124080"/>
            <a:ext cx="546120" cy="1003320"/>
          </a:xfrm>
          <a:custGeom>
            <a:avLst/>
            <a:gdLst/>
            <a:ahLst/>
            <a:rect l="l" t="t" r="r" b="b"/>
            <a:pathLst>
              <a:path w="344" h="632">
                <a:moveTo>
                  <a:pt x="96" y="0"/>
                </a:moveTo>
                <a:cubicBezTo>
                  <a:pt x="212" y="72"/>
                  <a:pt x="328" y="144"/>
                  <a:pt x="336" y="240"/>
                </a:cubicBezTo>
                <a:cubicBezTo>
                  <a:pt x="344" y="336"/>
                  <a:pt x="200" y="520"/>
                  <a:pt x="144" y="576"/>
                </a:cubicBezTo>
                <a:cubicBezTo>
                  <a:pt x="88" y="632"/>
                  <a:pt x="44" y="604"/>
                  <a:pt x="0" y="57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6480" y="388620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13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572000" y="228564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587840" y="2362320"/>
            <a:ext cx="898560" cy="178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35560" y="414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0" y="3124080"/>
            <a:ext cx="380880" cy="177840"/>
          </a:xfrm>
          <a:custGeom>
            <a:avLst/>
            <a:gdLst/>
            <a:ahLst/>
            <a:rect l="l" t="t" r="r" b="b"/>
            <a:pathLst>
              <a:path w="240" h="112">
                <a:moveTo>
                  <a:pt x="0" y="16"/>
                </a:moveTo>
                <a:cubicBezTo>
                  <a:pt x="28" y="8"/>
                  <a:pt x="56" y="0"/>
                  <a:pt x="96" y="16"/>
                </a:cubicBezTo>
                <a:cubicBezTo>
                  <a:pt x="136" y="32"/>
                  <a:pt x="188" y="72"/>
                  <a:pt x="240" y="11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06040" y="1676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696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6408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10080" y="2362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8320" y="263196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33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270320" y="83808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表哥很喜歡到碼頭觀看輪船航行。表哥記錄了他在碼頭看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的三艘輪船及燈塔的位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5240" y="2133720"/>
            <a:ext cx="187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以燈塔為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輪船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方位角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輪船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方位角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輪船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方位角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95240" y="4191120"/>
            <a:ext cx="187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以表哥為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輪船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方位角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輪船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方位角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輪船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方位角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19520" y="2438280"/>
            <a:ext cx="77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19520" y="2743200"/>
            <a:ext cx="77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205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19520" y="3048120"/>
            <a:ext cx="77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255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4495680"/>
            <a:ext cx="77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066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4800600"/>
            <a:ext cx="77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080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19520" y="5105520"/>
            <a:ext cx="77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000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9720" y="271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工作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bearing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53182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33720" y="29718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1447920"/>
            <a:ext cx="3886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2666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572000" y="14475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914400"/>
            <a:ext cx="7162920" cy="45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北（ＮＷ）　　　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北（Ｎ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TW" sz="2400" spc="-1" strike="noStrike">
                <a:solidFill>
                  <a:srgbClr val="ff3300"/>
                </a:solidFill>
                <a:latin typeface="文鼎新藝體"/>
                <a:ea typeface="文鼎新藝體"/>
              </a:rPr>
              <a:t>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東北（Ｎ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（Ｗ）　　　　　　　　　　　　　　東（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　　　　　　　　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南（Ｓ）　　　　南（Ｓ）　　　　東南（Ｓ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1295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47242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T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在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P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的北方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47242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T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在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P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的東北方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4100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怎麼辦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54100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3300"/>
                </a:solidFill>
                <a:latin typeface="文鼎粗隸"/>
                <a:ea typeface="文鼎粗隸"/>
              </a:rPr>
              <a:t>看來只有八個主要方向是不夠的</a:t>
            </a:r>
            <a:r>
              <a:rPr b="0" lang="zh-TW" sz="2800" spc="-1" strike="noStrike">
                <a:solidFill>
                  <a:srgbClr val="ff3300"/>
                </a:solidFill>
                <a:latin typeface="文鼎粗隸"/>
                <a:ea typeface="文鼎粗隸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1523880"/>
            <a:ext cx="28958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124080" y="1523880"/>
            <a:ext cx="28958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95280" y="914400"/>
            <a:ext cx="7162920" cy="45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北（ＮＷ）　　　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北（Ｎ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TW" sz="2400" spc="-1" strike="noStrike">
                <a:solidFill>
                  <a:srgbClr val="ff3300"/>
                </a:solidFill>
                <a:latin typeface="文鼎新藝體"/>
                <a:ea typeface="文鼎新藝體"/>
              </a:rPr>
              <a:t>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東北（Ｎ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（Ｗ）　　　　　　　　　　　　　　東（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　　　　　　　　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南（Ｓ）　　　　南（Ｓ）　　　　東南（Ｓ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29718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1447920"/>
            <a:ext cx="3886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590920" y="1447560"/>
            <a:ext cx="38862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1447920"/>
            <a:ext cx="38862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666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572000" y="14475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1295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4724280"/>
            <a:ext cx="64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你會怎樣說明金魚池的位置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572000" y="1371600"/>
            <a:ext cx="91440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54100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首先把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T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與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P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用直線連起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09680" y="4419720"/>
            <a:ext cx="60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然後利用量角器量出</a:t>
            </a:r>
            <a:r>
              <a:rPr b="0" lang="zh-TW" sz="3200" spc="-1" strike="noStrike">
                <a:solidFill>
                  <a:srgbClr val="990000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</a:rPr>
              <a:t>NPT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</a:rPr>
              <a:t>＝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</a:rPr>
              <a:t>25</a:t>
            </a:r>
            <a:r>
              <a:rPr b="0" lang="zh-TW" sz="32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4952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由此可知，</a:t>
            </a:r>
            <a:r>
              <a:rPr b="0" lang="zh-TW" sz="3200" spc="-1" strike="noStrike" u="sng">
                <a:solidFill>
                  <a:srgbClr val="3333cc"/>
                </a:solidFill>
                <a:uFillTx/>
                <a:latin typeface="標楷體"/>
                <a:ea typeface="標楷體"/>
              </a:rPr>
              <a:t>Ｔ對Ｐ的方向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90680" y="0"/>
          <a:ext cx="44150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0"/>
                    <a:ext cx="44150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057400" y="5486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「北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25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東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5486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寫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5410080"/>
            <a:ext cx="2475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Ｎ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25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Ｅ</a:t>
            </a:r>
            <a:r>
              <a:rPr b="0" lang="zh-TW" sz="3200" spc="-1" strike="noStrike">
                <a:solidFill>
                  <a:srgbClr val="3333cc"/>
                </a:solidFill>
                <a:latin typeface="華康POP1體"/>
                <a:ea typeface="華康POP1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60199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華康POP1體"/>
                <a:ea typeface="華康POP1體"/>
              </a:rPr>
              <a:t>還可以用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方位角</a:t>
            </a:r>
            <a:r>
              <a:rPr b="0" lang="zh-TW" sz="3200" spc="-1" strike="noStrike">
                <a:solidFill>
                  <a:srgbClr val="3333cc"/>
                </a:solidFill>
                <a:latin typeface="華康POP1體"/>
                <a:ea typeface="華康POP1體"/>
              </a:rPr>
              <a:t>來表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方位角的定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由北方起依順時針方向至目標方向所做成的角，稱為方位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而且方位角是用三位數字來表示的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例如︰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寫作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034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114800" y="60948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首先把指南針的圓周分為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360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等份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每份是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1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533520"/>
          <a:ext cx="415764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15764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038480" y="19051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北方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N)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定為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000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,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即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0</a:t>
            </a:r>
            <a:r>
              <a:rPr b="0" lang="zh-TW" sz="32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990000"/>
                </a:solidFill>
                <a:latin typeface="華康POP1體"/>
                <a:ea typeface="華康POP1體"/>
              </a:rPr>
              <a:t>)</a:t>
            </a:r>
            <a:r>
              <a:rPr b="0" lang="zh-TW" sz="3200" spc="-1" strike="noStrike">
                <a:solidFill>
                  <a:srgbClr val="990000"/>
                </a:solidFill>
                <a:latin typeface="華康POP1體"/>
                <a:ea typeface="華康POP1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266688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東方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E)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定為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090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,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即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90</a:t>
            </a:r>
            <a:r>
              <a:rPr b="0" lang="zh-TW" sz="32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990000"/>
                </a:solidFill>
                <a:latin typeface="華康POP1體"/>
                <a:ea typeface="華康POP1體"/>
              </a:rPr>
              <a:t>)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342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南方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S)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定為     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3429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18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429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(18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)</a:t>
            </a:r>
            <a:r>
              <a:rPr b="0" lang="zh-CN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4267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西方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W)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定為     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4221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27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42670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(27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)</a:t>
            </a:r>
            <a:r>
              <a:rPr b="0" lang="zh-CN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5029200"/>
            <a:ext cx="5410080" cy="1218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cc"/>
                </a:solidFill>
                <a:latin typeface="文鼎新藝體"/>
                <a:ea typeface="文鼎新藝體"/>
              </a:rPr>
              <a:t>這是用方位角表示的角度</a:t>
            </a:r>
            <a:r>
              <a:rPr b="0" lang="zh-TW" sz="3200" spc="-1" strike="noStrike">
                <a:solidFill>
                  <a:srgbClr val="9900cc"/>
                </a:solidFill>
                <a:latin typeface="文鼎新藝體"/>
                <a:ea typeface="文鼎新藝體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cc"/>
                </a:solidFill>
                <a:latin typeface="文鼎新藝體"/>
                <a:ea typeface="文鼎新藝體"/>
              </a:rPr>
              <a:t>它是由三個數字組成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5029200"/>
            <a:ext cx="685800" cy="685800"/>
          </a:xfrm>
          <a:custGeom>
            <a:avLst/>
            <a:gdLst>
              <a:gd name="textAreaLeft" fmla="*/ 228600 w 685800"/>
              <a:gd name="textAreaRight" fmla="*/ 587520 w 6858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19320" y="6858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Times New Roman"/>
              </a:rPr>
              <a:t>試用方位角表示下列方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388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3505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752480" y="20574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752480" y="251460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289548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809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045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4495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可不以可以用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045</a:t>
            </a:r>
            <a:r>
              <a:rPr b="0" lang="zh-TW" sz="28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來表示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410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可以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但不常用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因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NE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的寫法較簡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447920"/>
            <a:ext cx="3124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2819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086600" y="1905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248520" y="2819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69000" y="2535120"/>
            <a:ext cx="844560" cy="803520"/>
          </a:xfrm>
          <a:custGeom>
            <a:avLst/>
            <a:gdLst/>
            <a:ahLst/>
            <a:rect l="l" t="t" r="r" b="b"/>
            <a:pathLst>
              <a:path w="532" h="506">
                <a:moveTo>
                  <a:pt x="257" y="18"/>
                </a:moveTo>
                <a:cubicBezTo>
                  <a:pt x="311" y="0"/>
                  <a:pt x="353" y="17"/>
                  <a:pt x="407" y="31"/>
                </a:cubicBezTo>
                <a:cubicBezTo>
                  <a:pt x="420" y="43"/>
                  <a:pt x="434" y="54"/>
                  <a:pt x="445" y="68"/>
                </a:cubicBezTo>
                <a:cubicBezTo>
                  <a:pt x="464" y="92"/>
                  <a:pt x="495" y="144"/>
                  <a:pt x="495" y="144"/>
                </a:cubicBezTo>
                <a:cubicBezTo>
                  <a:pt x="503" y="169"/>
                  <a:pt x="512" y="194"/>
                  <a:pt x="520" y="219"/>
                </a:cubicBezTo>
                <a:cubicBezTo>
                  <a:pt x="524" y="231"/>
                  <a:pt x="532" y="256"/>
                  <a:pt x="532" y="256"/>
                </a:cubicBezTo>
                <a:cubicBezTo>
                  <a:pt x="516" y="338"/>
                  <a:pt x="508" y="416"/>
                  <a:pt x="420" y="444"/>
                </a:cubicBezTo>
                <a:cubicBezTo>
                  <a:pt x="372" y="476"/>
                  <a:pt x="339" y="483"/>
                  <a:pt x="282" y="494"/>
                </a:cubicBezTo>
                <a:cubicBezTo>
                  <a:pt x="223" y="489"/>
                  <a:pt x="152" y="506"/>
                  <a:pt x="106" y="469"/>
                </a:cubicBezTo>
                <a:cubicBezTo>
                  <a:pt x="0" y="385"/>
                  <a:pt x="142" y="464"/>
                  <a:pt x="56" y="4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962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225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46483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可不以可以用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225</a:t>
            </a:r>
            <a:r>
              <a:rPr b="0" lang="zh-TW" sz="28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來表示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可以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但不常用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因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SW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的寫法較簡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06760" y="166680"/>
            <a:ext cx="7875000" cy="6366960"/>
            <a:chOff x="806760" y="166680"/>
            <a:chExt cx="7875000" cy="6366960"/>
          </a:xfrm>
        </p:grpSpPr>
        <p:sp>
          <p:nvSpPr>
            <p:cNvPr id="140" name=""/>
            <p:cNvSpPr/>
            <p:nvPr/>
          </p:nvSpPr>
          <p:spPr>
            <a:xfrm>
              <a:off x="7697880" y="3092400"/>
              <a:ext cx="98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imes New Roman"/>
                </a:rPr>
                <a:t>090</a:t>
              </a:r>
              <a:r>
                <a:rPr b="0" lang="zh-TW" sz="2800" spc="-1" strike="noStrike" baseline="60000">
                  <a:solidFill>
                    <a:srgbClr val="000000"/>
                  </a:solidFill>
                  <a:latin typeface="Bookman Old Style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806760" y="166680"/>
              <a:ext cx="6987600" cy="6366960"/>
              <a:chOff x="806760" y="166680"/>
              <a:chExt cx="6987600" cy="6366960"/>
            </a:xfrm>
          </p:grpSpPr>
          <p:sp>
            <p:nvSpPr>
              <p:cNvPr id="142" name=""/>
              <p:cNvSpPr/>
              <p:nvPr/>
            </p:nvSpPr>
            <p:spPr>
              <a:xfrm>
                <a:off x="4344480" y="60948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2362320" y="1218960"/>
                <a:ext cx="4495680" cy="4190760"/>
                <a:chOff x="2362320" y="1218960"/>
                <a:chExt cx="4495680" cy="4190760"/>
              </a:xfrm>
            </p:grpSpPr>
            <p:sp>
              <p:nvSpPr>
                <p:cNvPr id="144" name=""/>
                <p:cNvSpPr/>
                <p:nvPr/>
              </p:nvSpPr>
              <p:spPr>
                <a:xfrm flipV="1">
                  <a:off x="4572000" y="1218960"/>
                  <a:ext cx="0" cy="4190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362320" y="3429000"/>
                  <a:ext cx="449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881080" y="1948680"/>
                  <a:ext cx="3381840" cy="296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2921400" y="1901160"/>
                  <a:ext cx="3260160" cy="30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7027200" y="310824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45920" y="530388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29880" y="31068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西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470680" y="134136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0000"/>
                    </a:solidFill>
                    <a:latin typeface="Times New Roman"/>
                  </a:rPr>
                  <a:t>西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36040" y="13352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ff0000"/>
                    </a:solidFill>
                    <a:latin typeface="Times New Roman"/>
                  </a:rPr>
                  <a:t>東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955120" y="479736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ff0000"/>
                    </a:solidFill>
                    <a:latin typeface="Times New Roman"/>
                  </a:rPr>
                  <a:t>東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70400" y="4911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0000"/>
                    </a:solidFill>
                    <a:latin typeface="Times New Roman"/>
                  </a:rPr>
                  <a:t>西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81760" y="16668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87880" y="589104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180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06760" y="310500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270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770880" y="102240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04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10480" y="521964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13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638720" y="5357880"/>
                <a:ext cx="99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225</a:t>
                </a:r>
                <a:r>
                  <a:rPr b="0" lang="zh-TW" sz="36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86080" y="100656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31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1304800">
                <a:off x="3980520" y="2539800"/>
                <a:ext cx="121824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9" y="0"/>
                    </a:moveTo>
                    <a:arcTo wR="10800" hR="10800" stAng="-5400167" swAng="54001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arcTo wR="10800" hR="10800" stAng="-5400167" swAng="5400167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32560" y="1965240"/>
                <a:ext cx="75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4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>
            <a:off x="905760" y="138240"/>
            <a:ext cx="2207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cc00cc"/>
                </a:solidFill>
                <a:latin typeface="Times New Roman"/>
                <a:ea typeface="標楷體"/>
              </a:rPr>
              <a:t>八個主要方位角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0T10:32:07Z</dcterms:created>
  <dc:creator>Guest4</dc:creator>
  <dc:description/>
  <dc:language>en-US</dc:language>
  <cp:lastModifiedBy>Simon</cp:lastModifiedBy>
  <dcterms:modified xsi:type="dcterms:W3CDTF">2004-05-13T13:44:19Z</dcterms:modified>
  <cp:revision>28</cp:revision>
  <dc:subject/>
  <dc:title>無投影片標題</dc:title>
</cp:coreProperties>
</file>