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210-EF8A-44D2-ACF7-10383096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58327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640" y="5507640"/>
            <a:ext cx="58327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E32-0EAE-453C-8233-0A375620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2640" y="55076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929-8964-466B-91CE-D214B033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720" y="264168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800" y="264168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640" y="550764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4720" y="550764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800" y="550764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EE1-FDEF-4B9A-B343-36583411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2640" y="2641680"/>
            <a:ext cx="5832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AF6-0515-41BF-BB99-F053BEEB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583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012-07EC-4E81-BEB5-10C3D5D4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CBD-59E1-4375-B351-3F1EBAF4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A33-ABA4-4724-A8E5-A71962DF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2640" y="814320"/>
            <a:ext cx="58327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592-E629-48FC-9193-A9BC408B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2640" y="55076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A7F-6B6F-42A4-93EF-822C3EF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B5C-B807-4DB9-9146-1C54A4A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640" y="5507640"/>
            <a:ext cx="58327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1C6-1EA2-402F-9D9E-A29C3F2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2640" y="2641680"/>
            <a:ext cx="583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2280" y="8331120"/>
            <a:ext cx="14288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160" y="8331120"/>
            <a:ext cx="14288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CC20-9AA2-4DA1-B731-2314ED179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0" y="-380880"/>
            <a:ext cx="6248520" cy="830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466560" y="-304920"/>
          <a:ext cx="4305240" cy="723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6560" y="-304920"/>
                    <a:ext cx="4305240" cy="72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-109440" y="3581280"/>
            <a:ext cx="2644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4920" rIns="124920" tIns="62640" bIns="62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t-Out - Cranford Nor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X 4g, 5g (180deg) (5g=90deg, 2-10 nose low MI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LERON R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ZY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IT 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BAN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V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W FL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W FLIGHT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B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CTORS CONTACT ST-IN OPTION CROSSW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 O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560" y="625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4680" y="2809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94720" y="1905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5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680" y="219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9840" y="3498840"/>
            <a:ext cx="15843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920" rIns="124920" tIns="62640" bIns="62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  Don’t su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23:48:31Z</dcterms:created>
  <dc:creator>Bryan Duke</dc:creator>
  <dc:description/>
  <dc:language>en-US</dc:language>
  <cp:lastModifiedBy>Bryan Duke</cp:lastModifiedBy>
  <cp:lastPrinted>1999-09-21T02:06:38Z</cp:lastPrinted>
  <dcterms:modified xsi:type="dcterms:W3CDTF">2000-01-09T21:57:31Z</dcterms:modified>
  <cp:revision>13</cp:revision>
  <dc:subject/>
  <dc:title>No Slide Title</dc:title>
</cp:coreProperties>
</file>