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BAE-0E72-4104-8267-1FA49FE2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9D0-D17E-404A-98C7-7E5E8AD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D2E-3423-430E-8A8A-0C3253F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F25-A753-43B0-B06F-5D09B628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479-A3E8-45CF-8695-DDA342AA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FB1-1E81-42CC-A673-55F52B05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A61-7D82-485A-83F2-32493B93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68-9E1C-46FB-B497-14CA28F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00E-817C-4F6F-97DD-121FF70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86F-C8E5-416E-8623-E1F7515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E03-BE87-4503-B014-BB4C24B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304-D04C-4F02-A71C-91B0999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D50-76A9-4A7B-9869-00B3DC242F0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D00850_" descr=""/>
          <p:cNvPicPr/>
          <p:nvPr/>
        </p:nvPicPr>
        <p:blipFill>
          <a:blip r:embed="rId2"/>
          <a:stretch/>
        </p:blipFill>
        <p:spPr>
          <a:xfrm>
            <a:off x="6477120" y="2971800"/>
            <a:ext cx="1562040" cy="173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5889600"/>
            <a:ext cx="228600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1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שנה טובה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real-apple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2819160" cy="1884600"/>
          </a:xfrm>
          <a:prstGeom prst="rect">
            <a:avLst/>
          </a:prstGeom>
          <a:ln w="0">
            <a:noFill/>
          </a:ln>
        </p:spPr>
      </p:pic>
      <p:pic>
        <p:nvPicPr>
          <p:cNvPr id="44" name="aaa" descr=""/>
          <p:cNvPicPr/>
          <p:nvPr/>
        </p:nvPicPr>
        <p:blipFill>
          <a:blip r:embed="rId4"/>
          <a:stretch/>
        </p:blipFill>
        <p:spPr>
          <a:xfrm>
            <a:off x="2743200" y="0"/>
            <a:ext cx="6640560" cy="26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71800" y="380880"/>
            <a:ext cx="990720" cy="916200"/>
          </a:xfrm>
          <a:prstGeom prst="rect">
            <a:avLst/>
          </a:prstGeom>
          <a:ln w="0">
            <a:noFill/>
          </a:ln>
        </p:spPr>
      </p:pic>
      <p:pic>
        <p:nvPicPr>
          <p:cNvPr id="46" name="FD00862_" descr=""/>
          <p:cNvPicPr/>
          <p:nvPr/>
        </p:nvPicPr>
        <p:blipFill>
          <a:blip r:embed="rId6"/>
          <a:stretch/>
        </p:blipFill>
        <p:spPr>
          <a:xfrm>
            <a:off x="7210440" y="3581280"/>
            <a:ext cx="1933560" cy="1962360"/>
          </a:xfrm>
          <a:prstGeom prst="rect">
            <a:avLst/>
          </a:prstGeom>
          <a:ln w="0">
            <a:noFill/>
          </a:ln>
        </p:spPr>
      </p:pic>
      <p:pic>
        <p:nvPicPr>
          <p:cNvPr id="47" name="j0112476" descr=""/>
          <p:cNvPicPr/>
          <p:nvPr/>
        </p:nvPicPr>
        <p:blipFill>
          <a:blip r:embed="rId7"/>
          <a:stretch/>
        </p:blipFill>
        <p:spPr>
          <a:xfrm>
            <a:off x="3106800" y="4572000"/>
            <a:ext cx="2930400" cy="1362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2133720"/>
            <a:ext cx="7162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ccff"/>
                </a:solidFill>
                <a:latin typeface="Times New Roman"/>
              </a:rPr>
              <a:t>חודש תשרי ושמותיו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לשה שמות לחודש זה : החודש השביעי, ירח האיתנים ו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התורה קראתו בכל מקום החודש השביעי לפי שהוא שביעי למניין החודשים, שמתחיל תמיד מניסן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עשר ימי חג בחדש זה : שני ימי ראש השנה, יום כיפור, שבעת ימי החג ושמיני עצר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נביאים נקרא החדש הזה גם ירח האיתנים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בלשון החכמים נקרא חודש זה בשם 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תשרי – לשון התרה ומחילה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1868760" cy="1585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20968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חד בתשרי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בתשרי – ראש השנה לשנים, לשמיטין וליובלות, לנטיעה ולירקו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ראש השנה - שני ימי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עושים יום טוב שני ימים, אחד בתשרי ושני ב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197080" cy="2438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2590920"/>
            <a:ext cx="7620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ד"ו ראש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 של ראש השנה אינו יכול לחול באחד משלשה ימים אלה 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, יום רביעי, ויום שישי בשבוע, וסימן נתנו בו : לא אד"ו רא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655640" cy="19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339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133720"/>
            <a:ext cx="6324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יום הדי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הוא יום הדין לכל באי עולם. ביום זה אדם נדון על מעשיו וכל קורותיו ומאורעותיו שיארעו לו בשנה הבא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221004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371600"/>
            <a:ext cx="80773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מנהגים בסעוד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טובלים פרוסת חלה של המוציא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וקחים תפוח מתוק וטובלים אותו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ומרים 'יהי רצון מלפניך שתחדש עלינו שנה טובה ומתוק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אוכל רימון אומר 'שירבו זכויותנו כרימון'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כשאוכל תמרים אומר : יתמו שונאינו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כן נוהגים לאכול ראש כבש או ראש גד ואומרים : יהי רצון מלפניך שנהיה לראש ולא לזנב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אכול דגים – סימן לברכ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fish1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1904760" cy="1571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2362320"/>
            <a:ext cx="6019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תשליך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מנחה של ראש השנה אחרי תפילת המנחה וקודם שקיעת החמה, עושים סדר 'תשליך'. הולכים למקום שיש שם מים לחוף ים או נהר, אל באר מים או מעין או בור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213372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זמן תקיעת שופ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זמן תקיעת שופר ביום ולא בליל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2627280" cy="353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981080"/>
            <a:ext cx="6934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בין כסה לעשו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בעת הימים שבין ראש השנה, ליום כיפור נקראים בשם 'ימי תשובה', או עשרת ימי תשובה', אף-על-פי שאינם שבעה, לפי שהם רובם של עשרת הימים שנקבעו לתשובה, והם : שני ימי ראש השנה, יום הכיפורים ושבעה ימים שבינתיים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1805040" cy="144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8:23:12Z</dcterms:created>
  <dc:creator>אהל שם</dc:creator>
  <dc:description/>
  <dc:language>en-US</dc:language>
  <cp:lastModifiedBy>Shauli</cp:lastModifiedBy>
  <dcterms:modified xsi:type="dcterms:W3CDTF">2001-09-15T17:44:11Z</dcterms:modified>
  <cp:revision>10</cp:revision>
  <dc:subject/>
  <dc:title>שער</dc:title>
</cp:coreProperties>
</file>