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32C9-E866-4679-BFBF-36CF6CAE3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F50D-2584-46BA-915D-715A48AB5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4D88-E6F9-4B06-B2E7-623A003A2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9E91-5AB7-47AA-9FBF-4FC315C2F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D5CB-3205-4ECA-B3A1-C1EB3DF75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EA4C-C320-4F15-AADF-909683395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DF32-4D91-462F-82C3-6B76EA819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5A2A-AE31-494A-8DFD-DA6C49F4B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7C8A-3A8C-41A4-BEAE-7AC313983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BD52-EDD9-46B6-BA32-C3C8DC180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DDF0-E8B3-4AB2-817C-175596963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20B2-0ABE-4A7C-8B81-B68FE8F88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8DEF3-516A-4DFA-9EF8-347C069D31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838080"/>
            <a:ext cx="6705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Hello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28800" y="2743200"/>
            <a:ext cx="5638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66ff66"/>
                </a:solidFill>
                <a:latin typeface="Ransom"/>
              </a:rPr>
              <a:t>DO YOU WANT TO BOOGIE?!?!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3000"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1219320" y="533520"/>
            <a:ext cx="652464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HOW do YOu FeEL Today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590920" y="2362320"/>
            <a:ext cx="4419360" cy="144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Snap ITC"/>
              </a:rPr>
              <a:t>ARE YOU?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Snap ITC"/>
              <a:ea typeface="Snap ITC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590920" y="4114800"/>
            <a:ext cx="419076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READY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p:transition advTm="3000">
    <p:cover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logo1" descr=""/>
          <p:cNvPicPr/>
          <p:nvPr/>
        </p:nvPicPr>
        <p:blipFill>
          <a:blip r:embed="rId1"/>
          <a:stretch/>
        </p:blipFill>
        <p:spPr>
          <a:xfrm>
            <a:off x="4495680" y="1066680"/>
            <a:ext cx="3597480" cy="44960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685800" y="3200400"/>
            <a:ext cx="3048120" cy="171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YUK ! &gt;&gt;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logo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2133720" y="533520"/>
            <a:ext cx="4403520" cy="390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Just Kidding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200400"/>
            <a:ext cx="617220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ffff00"/>
                </a:solidFill>
                <a:latin typeface="Times New Roman"/>
              </a:rPr>
              <a:t>Got’cha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ffff00"/>
                </a:solidFill>
                <a:latin typeface="Times New Roman"/>
              </a:rPr>
              <a:t>didn’t I?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3000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295280" y="838080"/>
            <a:ext cx="7010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It’s going to be a lonely night..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715000" y="2133720"/>
            <a:ext cx="2600280" cy="26002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219320" y="4038480"/>
            <a:ext cx="3962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I lost my wife..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0T13:39:54Z</dcterms:created>
  <dc:creator>David Gilbert</dc:creator>
  <dc:description/>
  <dc:language>en-US</dc:language>
  <cp:lastModifiedBy>David Gilbert</cp:lastModifiedBy>
  <dcterms:modified xsi:type="dcterms:W3CDTF">1999-01-27T14:22:38Z</dcterms:modified>
  <cp:revision>2</cp:revision>
  <dc:subject/>
  <dc:title>No Slide Title</dc:title>
</cp:coreProperties>
</file>