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D13-F9D1-4E36-8E5A-A67B7103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957-6626-4B20-98E8-18D17CB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58D-DC05-4E3B-A6C5-77E85A10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CD-97A8-4A29-B08C-01F4100A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2FD-98CA-4B5A-AF47-B55F397D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746-4C06-47FD-9F8F-D65745A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EAE-67E4-4568-87B6-D266D0C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44A-FB25-4A52-8171-89BA6DEC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F08-201B-4058-ACC7-1547905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536-2BAD-415F-823A-8FD5980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136-A40F-4864-9495-F9F3793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3D4-7F6E-4F4B-B952-BAC101B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EF0C-FC9C-471B-BB8D-73E0B43AB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5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image" Target="../media/image2.pn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6400" y="10652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ystems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2057400" y="1933560"/>
            <a:ext cx="5257800" cy="392040"/>
          </a:xfrm>
          <a:custGeom>
            <a:avLst/>
            <a:gdLst>
              <a:gd name="textAreaLeft" fmla="*/ 42840 w 5257800"/>
              <a:gd name="textAreaRight" fmla="*/ 5214960 w 5257800"/>
              <a:gd name="textAreaTop" fmla="*/ 42840 h 392040"/>
              <a:gd name="textAreaBottom" fmla="*/ 349200 h 392040"/>
            </a:gdLst>
            <a:ahLst/>
            <a:rect l="textAreaLeft" t="textAreaTop" r="textAreaRight" b="textAreaBottom"/>
            <a:pathLst>
              <a:path w="289440" h="21600">
                <a:moveTo>
                  <a:pt x="0" y="0"/>
                </a:moveTo>
                <a:lnTo>
                  <a:pt x="289440" y="0"/>
                </a:lnTo>
                <a:lnTo>
                  <a:pt x="289440" y="21600"/>
                </a:lnTo>
                <a:lnTo>
                  <a:pt x="0" y="21600"/>
                </a:lnTo>
                <a:close/>
              </a:path>
              <a:path fill="lightenLess" w="289440" h="21600">
                <a:moveTo>
                  <a:pt x="0" y="0"/>
                </a:moveTo>
                <a:lnTo>
                  <a:pt x="289440" y="0"/>
                </a:lnTo>
                <a:lnTo>
                  <a:pt x="287077" y="2363"/>
                </a:lnTo>
                <a:lnTo>
                  <a:pt x="2363" y="2363"/>
                </a:lnTo>
                <a:close/>
              </a:path>
              <a:path fill="darken" w="289440" h="21600">
                <a:moveTo>
                  <a:pt x="289440" y="0"/>
                </a:moveTo>
                <a:lnTo>
                  <a:pt x="289440" y="21600"/>
                </a:lnTo>
                <a:lnTo>
                  <a:pt x="287077" y="19237"/>
                </a:lnTo>
                <a:lnTo>
                  <a:pt x="287077" y="2363"/>
                </a:lnTo>
                <a:close/>
              </a:path>
              <a:path fill="darkenLess" w="289440" h="21600">
                <a:moveTo>
                  <a:pt x="289440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7077" y="19237"/>
                </a:lnTo>
                <a:close/>
              </a:path>
              <a:path fill="lighten" w="289440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atabas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19320" y="1114560"/>
          <a:ext cx="6094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14560"/>
                    <a:ext cx="6094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057400" y="388476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017960"/>
            <a:ext cx="1067040" cy="58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81280" y="388476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88476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21318_" descr=""/>
          <p:cNvPicPr/>
          <p:nvPr/>
        </p:nvPicPr>
        <p:blipFill>
          <a:blip r:embed="rId5"/>
          <a:stretch/>
        </p:blipFill>
        <p:spPr>
          <a:xfrm>
            <a:off x="990720" y="1658880"/>
            <a:ext cx="7121520" cy="79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905120" y="109440"/>
            <a:ext cx="5105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8120" y="595440"/>
            <a:ext cx="2409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bd21318_" descr=""/>
          <p:cNvPicPr/>
          <p:nvPr/>
        </p:nvPicPr>
        <p:blipFill>
          <a:blip r:embed="rId6"/>
          <a:stretch/>
        </p:blipFill>
        <p:spPr>
          <a:xfrm>
            <a:off x="990720" y="9874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2720" y="2590920"/>
            <a:ext cx="5262480" cy="392040"/>
          </a:xfrm>
          <a:custGeom>
            <a:avLst/>
            <a:gdLst>
              <a:gd name="textAreaLeft" fmla="*/ 42840 w 5262480"/>
              <a:gd name="textAreaRight" fmla="*/ 5219640 w 5262480"/>
              <a:gd name="textAreaTop" fmla="*/ 42840 h 392040"/>
              <a:gd name="textAreaBottom" fmla="*/ 349200 h 392040"/>
            </a:gdLst>
            <a:ahLst/>
            <a:rect l="textAreaLeft" t="textAreaTop" r="textAreaRight" b="textAreaBottom"/>
            <a:pathLst>
              <a:path w="289698" h="21600">
                <a:moveTo>
                  <a:pt x="0" y="0"/>
                </a:moveTo>
                <a:lnTo>
                  <a:pt x="289698" y="0"/>
                </a:lnTo>
                <a:lnTo>
                  <a:pt x="289698" y="21600"/>
                </a:lnTo>
                <a:lnTo>
                  <a:pt x="0" y="21600"/>
                </a:lnTo>
                <a:close/>
              </a:path>
              <a:path fill="lightenLess" w="289698" h="21600">
                <a:moveTo>
                  <a:pt x="0" y="0"/>
                </a:moveTo>
                <a:lnTo>
                  <a:pt x="289698" y="0"/>
                </a:lnTo>
                <a:lnTo>
                  <a:pt x="287335" y="2363"/>
                </a:lnTo>
                <a:lnTo>
                  <a:pt x="2363" y="2363"/>
                </a:lnTo>
                <a:close/>
              </a:path>
              <a:path fill="darken" w="289698" h="21600">
                <a:moveTo>
                  <a:pt x="289698" y="0"/>
                </a:moveTo>
                <a:lnTo>
                  <a:pt x="289698" y="21600"/>
                </a:lnTo>
                <a:lnTo>
                  <a:pt x="287335" y="19237"/>
                </a:lnTo>
                <a:lnTo>
                  <a:pt x="287335" y="2363"/>
                </a:lnTo>
                <a:close/>
              </a:path>
              <a:path fill="darkenLess" w="289698" h="21600">
                <a:moveTo>
                  <a:pt x="289698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7335" y="19237"/>
                </a:lnTo>
                <a:close/>
              </a:path>
              <a:path fill="lighten" w="289698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terprise Resourc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2057400" y="3251160"/>
            <a:ext cx="5257800" cy="392040"/>
          </a:xfrm>
          <a:custGeom>
            <a:avLst/>
            <a:gdLst>
              <a:gd name="textAreaLeft" fmla="*/ 42840 w 5257800"/>
              <a:gd name="textAreaRight" fmla="*/ 5214960 w 5257800"/>
              <a:gd name="textAreaTop" fmla="*/ 42840 h 392040"/>
              <a:gd name="textAreaBottom" fmla="*/ 349200 h 392040"/>
            </a:gdLst>
            <a:ahLst/>
            <a:rect l="textAreaLeft" t="textAreaTop" r="textAreaRight" b="textAreaBottom"/>
            <a:pathLst>
              <a:path w="289440" h="21600">
                <a:moveTo>
                  <a:pt x="0" y="0"/>
                </a:moveTo>
                <a:lnTo>
                  <a:pt x="289440" y="0"/>
                </a:lnTo>
                <a:lnTo>
                  <a:pt x="289440" y="21600"/>
                </a:lnTo>
                <a:lnTo>
                  <a:pt x="0" y="21600"/>
                </a:lnTo>
                <a:close/>
              </a:path>
              <a:path fill="lightenLess" w="289440" h="21600">
                <a:moveTo>
                  <a:pt x="0" y="0"/>
                </a:moveTo>
                <a:lnTo>
                  <a:pt x="289440" y="0"/>
                </a:lnTo>
                <a:lnTo>
                  <a:pt x="287077" y="2363"/>
                </a:lnTo>
                <a:lnTo>
                  <a:pt x="2363" y="2363"/>
                </a:lnTo>
                <a:close/>
              </a:path>
              <a:path fill="darken" w="289440" h="21600">
                <a:moveTo>
                  <a:pt x="289440" y="0"/>
                </a:moveTo>
                <a:lnTo>
                  <a:pt x="289440" y="21600"/>
                </a:lnTo>
                <a:lnTo>
                  <a:pt x="287077" y="19237"/>
                </a:lnTo>
                <a:lnTo>
                  <a:pt x="287077" y="2363"/>
                </a:lnTo>
                <a:close/>
              </a:path>
              <a:path fill="darkenLess" w="289440" h="21600">
                <a:moveTo>
                  <a:pt x="289440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7077" y="19237"/>
                </a:lnTo>
                <a:close/>
              </a:path>
              <a:path fill="lighten" w="289440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2052720" y="5003640"/>
            <a:ext cx="5338800" cy="392400"/>
          </a:xfrm>
          <a:custGeom>
            <a:avLst/>
            <a:gdLst>
              <a:gd name="textAreaLeft" fmla="*/ 42840 w 5338800"/>
              <a:gd name="textAreaRight" fmla="*/ 5295960 w 5338800"/>
              <a:gd name="textAreaTop" fmla="*/ 42840 h 392400"/>
              <a:gd name="textAreaBottom" fmla="*/ 349560 h 392400"/>
            </a:gdLst>
            <a:ahLst/>
            <a:rect l="textAreaLeft" t="textAreaTop" r="textAreaRight" b="textAreaBottom"/>
            <a:pathLst>
              <a:path w="293629" h="21600">
                <a:moveTo>
                  <a:pt x="0" y="0"/>
                </a:moveTo>
                <a:lnTo>
                  <a:pt x="293629" y="0"/>
                </a:lnTo>
                <a:lnTo>
                  <a:pt x="293629" y="21600"/>
                </a:lnTo>
                <a:lnTo>
                  <a:pt x="0" y="21600"/>
                </a:lnTo>
                <a:close/>
              </a:path>
              <a:path fill="lightenLess" w="293629" h="21600">
                <a:moveTo>
                  <a:pt x="0" y="0"/>
                </a:moveTo>
                <a:lnTo>
                  <a:pt x="293629" y="0"/>
                </a:lnTo>
                <a:lnTo>
                  <a:pt x="291266" y="2363"/>
                </a:lnTo>
                <a:lnTo>
                  <a:pt x="2363" y="2363"/>
                </a:lnTo>
                <a:close/>
              </a:path>
              <a:path fill="darken" w="293629" h="21600">
                <a:moveTo>
                  <a:pt x="293629" y="0"/>
                </a:moveTo>
                <a:lnTo>
                  <a:pt x="293629" y="21600"/>
                </a:lnTo>
                <a:lnTo>
                  <a:pt x="291266" y="19237"/>
                </a:lnTo>
                <a:lnTo>
                  <a:pt x="291266" y="2363"/>
                </a:lnTo>
                <a:close/>
              </a:path>
              <a:path fill="darkenLess" w="293629" h="21600">
                <a:moveTo>
                  <a:pt x="29362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1266" y="19237"/>
                </a:lnTo>
                <a:close/>
              </a:path>
              <a:path fill="lighten" w="29362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560880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205000" y="5742000"/>
            <a:ext cx="1066680" cy="58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76600" y="560880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0480" y="560880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657600" y="3929040"/>
            <a:ext cx="1218960" cy="747720"/>
            <a:chOff x="3657600" y="3929040"/>
            <a:chExt cx="1218960" cy="747720"/>
          </a:xfrm>
        </p:grpSpPr>
        <p:pic>
          <p:nvPicPr>
            <p:cNvPr id="61" name="!NEWABOJ" descr=""/>
            <p:cNvPicPr/>
            <p:nvPr/>
          </p:nvPicPr>
          <p:blipFill>
            <a:blip r:embed="rId10"/>
            <a:srcRect l="31522" t="-1004" r="25003" b="71189"/>
            <a:stretch/>
          </p:blipFill>
          <p:spPr>
            <a:xfrm>
              <a:off x="3657600" y="3929040"/>
              <a:ext cx="12182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658680" y="3945600"/>
              <a:ext cx="1217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652920" y="5662440"/>
            <a:ext cx="1218600" cy="747720"/>
            <a:chOff x="3652920" y="5662440"/>
            <a:chExt cx="1218600" cy="747720"/>
          </a:xfrm>
        </p:grpSpPr>
        <p:pic>
          <p:nvPicPr>
            <p:cNvPr id="64" name="!NEWABOJ" descr=""/>
            <p:cNvPicPr/>
            <p:nvPr/>
          </p:nvPicPr>
          <p:blipFill>
            <a:blip r:embed="rId11"/>
            <a:srcRect l="31522" t="-1004" r="25003" b="71189"/>
            <a:stretch/>
          </p:blipFill>
          <p:spPr>
            <a:xfrm>
              <a:off x="3652920" y="5662440"/>
              <a:ext cx="121788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654000" y="5679000"/>
              <a:ext cx="1217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new%20supercat%20logo" descr=""/>
          <p:cNvPicPr/>
          <p:nvPr/>
        </p:nvPicPr>
        <p:blipFill>
          <a:blip r:embed="rId12"/>
          <a:stretch/>
        </p:blipFill>
        <p:spPr>
          <a:xfrm>
            <a:off x="5210280" y="3976560"/>
            <a:ext cx="1158840" cy="717840"/>
          </a:xfrm>
          <a:prstGeom prst="rect">
            <a:avLst/>
          </a:prstGeom>
          <a:ln w="0">
            <a:noFill/>
          </a:ln>
        </p:spPr>
      </p:pic>
      <p:pic>
        <p:nvPicPr>
          <p:cNvPr id="67" name="new%20supercat%20logo" descr=""/>
          <p:cNvPicPr/>
          <p:nvPr/>
        </p:nvPicPr>
        <p:blipFill>
          <a:blip r:embed="rId13"/>
          <a:stretch/>
        </p:blipFill>
        <p:spPr>
          <a:xfrm>
            <a:off x="5205240" y="5688000"/>
            <a:ext cx="1159200" cy="71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-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69280" y="153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981080"/>
            <a:ext cx="815364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pecial Pro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S trigger and POD Module revision to eliminate double updat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TLV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performance report for UK and DFA trans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delivery status update restrictions on DFA and U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SMS queuing and reprocessing 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-Ongoing/On-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69280" y="153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057400"/>
            <a:ext cx="815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berry Evaluation and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e Mobile Mail Evaluation and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GA – Fr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Tracking System – ongoing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canner for Cargo Traffic Team; UAT scheduled Oct 3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iting delivery of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data clean-up and final migration to new Linux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-Ongoing/On-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69280" y="153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981080"/>
            <a:ext cx="7481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Solution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FID Implementation (Durian &amp; Hang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&amp;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S Implementation at DPI Edan (Direct Manila);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pending repair of sca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leased line at DPI-Edan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for off-loaded c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Completed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82520" y="2133720"/>
            <a:ext cx="86666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FF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Generation SuperCat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tion of Nexus Debugging,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Turnover of System from SQL Wizard to ATG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ssage I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91840" y="16765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G SEA CE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Ongo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-89640" y="2438280"/>
            <a:ext cx="950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 Date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Task Management System (L . Notes)     - Oct ‘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CFC SAS Application (L . Notes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- Oct ‘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SFFC SMS Ticketing Additional Gateway - Oct ’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Batangas-Calapan Ticketing System       - Dec ‘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Co-Branding/Credit Card Payment      - Deferred to ‘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64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TG SEA CE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71604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47920" y="868320"/>
          <a:ext cx="60948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68320"/>
                    <a:ext cx="6094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600200"/>
          <a:ext cx="6796080" cy="488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600200"/>
                    <a:ext cx="679608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600200" y="1743120"/>
          <a:ext cx="5805360" cy="4876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743120"/>
                    <a:ext cx="58053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295280" y="152280"/>
          <a:ext cx="6772320" cy="63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280"/>
                    <a:ext cx="67723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71604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igh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S Enhancem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monitoring of COD SL performance; On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ing UAT for expanded SAS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Wareho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waiting go signal for ZIP DM production run; On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ing review of UAT results for core Fr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IP Enhancem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UAT for ZIP system modifications relativ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rinting of the bills of lading, official receipts, and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ing of invoices; On-going application tuning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IP Inbound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mi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front-end system prototyping, datab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 prototyping, and  testing of Oracl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-Connect tool; On-going documentation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ical model and data model release 1.1; On-go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ation of the test suites for Asmira system bas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logical model release 1.1, simultaneous with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the same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m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development and bug fixing by Performex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d on the results of on-going U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A System Interfa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ed the development of the interface progra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UAT; Awaiting final schedule of implementat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e to resolutions to issues pertaining to th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ight Systems/Projects Turnov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turnover of all Freight division’s system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projects to Oracle Apps Development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16000" y="158436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WG&amp;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 txBox="1"/>
          <p:nvPr/>
        </p:nvSpPr>
        <p:spPr>
          <a:xfrm>
            <a:off x="685800" y="457200"/>
            <a:ext cx="1266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6094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16000" y="129528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WG&amp;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523880"/>
            <a:ext cx="8991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us2i Enhanc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50 printing 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suance – User test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und – User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A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e U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encountering connection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lem isolation being done by WGA &amp; ABACUS 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S enhanc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e UAT. For training and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tch Processing o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ce Pa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cket Allo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phase 1) for U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and Plann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ion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abo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/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00400" y="228600"/>
            <a:ext cx="1266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-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61000" y="16002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B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8480" y="2133720"/>
            <a:ext cx="831708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stallation and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D Claims Test Migration to Oracle 9i on 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FC Platform Testing Migration to 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gistics DB Setup (Production and Staging 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FC Standby Database (reconfigured after HW Failure of Production DB Server in Sep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 Forms 6i Training Environment (Linux Platfor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mplement New Backup Strategy (using R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RD – Manugistics Production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documentation of production DB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i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640" y="182880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ATG Finance / O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R On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mplementation, awai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ailable P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Receipt System Rollout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with users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s with Enhanc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G/L for GU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est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hold d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no test env, awaiting for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upgrade andHBA c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 / HR Reports Custo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 Sales and Output T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UAT/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s’ Cash Advances &amp;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UAT/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n Balances Led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720" y="18748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Ongo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-56880" y="2424240"/>
            <a:ext cx="94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 Date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 Migration of Quikair DB to 9i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Oc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 Technical Documentation of DB’s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Oc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 Migration of CLMAIR (Claims for A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Oracle 9i on Linu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p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649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B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Pend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784680" y="1560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B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424240"/>
            <a:ext cx="862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ning and Implementation of Disaster Recovery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990360"/>
            <a:ext cx="654048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0" y="1676520"/>
            <a:ext cx="4716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749160"/>
            <a:ext cx="7238880" cy="533520"/>
          </a:xfrm>
          <a:custGeom>
            <a:avLst/>
            <a:gdLst>
              <a:gd name="textAreaLeft" fmla="*/ 58320 w 7238880"/>
              <a:gd name="textAreaRight" fmla="*/ 7180560 w 7238880"/>
              <a:gd name="textAreaTop" fmla="*/ 58320 h 533520"/>
              <a:gd name="textAreaBottom" fmla="*/ 475200 h 533520"/>
            </a:gdLst>
            <a:ahLst/>
            <a:rect l="textAreaLeft" t="textAreaTop" r="textAreaRight" b="textAreaBottom"/>
            <a:pathLst>
              <a:path w="292889" h="21600">
                <a:moveTo>
                  <a:pt x="0" y="0"/>
                </a:moveTo>
                <a:lnTo>
                  <a:pt x="292889" y="0"/>
                </a:lnTo>
                <a:lnTo>
                  <a:pt x="292889" y="21600"/>
                </a:lnTo>
                <a:lnTo>
                  <a:pt x="0" y="21600"/>
                </a:lnTo>
                <a:close/>
              </a:path>
              <a:path fill="lightenLess" w="292889" h="21600">
                <a:moveTo>
                  <a:pt x="0" y="0"/>
                </a:moveTo>
                <a:lnTo>
                  <a:pt x="292889" y="0"/>
                </a:lnTo>
                <a:lnTo>
                  <a:pt x="290526" y="2363"/>
                </a:lnTo>
                <a:lnTo>
                  <a:pt x="2363" y="2363"/>
                </a:lnTo>
                <a:close/>
              </a:path>
              <a:path fill="darken" w="292889" h="21600">
                <a:moveTo>
                  <a:pt x="292889" y="0"/>
                </a:moveTo>
                <a:lnTo>
                  <a:pt x="292889" y="21600"/>
                </a:lnTo>
                <a:lnTo>
                  <a:pt x="290526" y="19237"/>
                </a:lnTo>
                <a:lnTo>
                  <a:pt x="290526" y="2363"/>
                </a:lnTo>
                <a:close/>
              </a:path>
              <a:path fill="darkenLess" w="292889" h="21600">
                <a:moveTo>
                  <a:pt x="29288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0526" y="19237"/>
                </a:lnTo>
                <a:close/>
              </a:path>
              <a:path fill="lighten" w="29288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806040"/>
            <a:ext cx="66294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erprise Resource Planning (E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063800" y="13460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entury Gothic"/>
              </a:rPr>
              <a:t>Accomplishments in September 200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33360" y="1760400"/>
          <a:ext cx="6629400" cy="50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760400"/>
                    <a:ext cx="662940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749160"/>
            <a:ext cx="7238880" cy="533520"/>
          </a:xfrm>
          <a:custGeom>
            <a:avLst/>
            <a:gdLst>
              <a:gd name="textAreaLeft" fmla="*/ 58320 w 7238880"/>
              <a:gd name="textAreaRight" fmla="*/ 7180560 w 7238880"/>
              <a:gd name="textAreaTop" fmla="*/ 58320 h 533520"/>
              <a:gd name="textAreaBottom" fmla="*/ 475200 h 533520"/>
            </a:gdLst>
            <a:ahLst/>
            <a:rect l="textAreaLeft" t="textAreaTop" r="textAreaRight" b="textAreaBottom"/>
            <a:pathLst>
              <a:path w="292889" h="21600">
                <a:moveTo>
                  <a:pt x="0" y="0"/>
                </a:moveTo>
                <a:lnTo>
                  <a:pt x="292889" y="0"/>
                </a:lnTo>
                <a:lnTo>
                  <a:pt x="292889" y="21600"/>
                </a:lnTo>
                <a:lnTo>
                  <a:pt x="0" y="21600"/>
                </a:lnTo>
                <a:close/>
              </a:path>
              <a:path fill="lightenLess" w="292889" h="21600">
                <a:moveTo>
                  <a:pt x="0" y="0"/>
                </a:moveTo>
                <a:lnTo>
                  <a:pt x="292889" y="0"/>
                </a:lnTo>
                <a:lnTo>
                  <a:pt x="290526" y="2363"/>
                </a:lnTo>
                <a:lnTo>
                  <a:pt x="2363" y="2363"/>
                </a:lnTo>
                <a:close/>
              </a:path>
              <a:path fill="darken" w="292889" h="21600">
                <a:moveTo>
                  <a:pt x="292889" y="0"/>
                </a:moveTo>
                <a:lnTo>
                  <a:pt x="292889" y="21600"/>
                </a:lnTo>
                <a:lnTo>
                  <a:pt x="290526" y="19237"/>
                </a:lnTo>
                <a:lnTo>
                  <a:pt x="290526" y="2363"/>
                </a:lnTo>
                <a:close/>
              </a:path>
              <a:path fill="darkenLess" w="292889" h="21600">
                <a:moveTo>
                  <a:pt x="29288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0526" y="19237"/>
                </a:lnTo>
                <a:close/>
              </a:path>
              <a:path fill="lighten" w="29288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806040"/>
            <a:ext cx="66294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erprise Resource Planning (E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387520" y="1346040"/>
            <a:ext cx="469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entury Gothic"/>
              </a:rPr>
              <a:t>Upcoming Activities in Oct-Nov 200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61960" y="1749600"/>
          <a:ext cx="632484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749600"/>
                    <a:ext cx="632484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10159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167840"/>
            <a:ext cx="654048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erprise Resource Planning (ERP) - K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123920" y="2657520"/>
          <a:ext cx="6962760" cy="139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2657520"/>
                    <a:ext cx="69627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062000" y="4608360"/>
            <a:ext cx="650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: Although the WGAEVA1 was down for almost 2 days, the reason for the downtime wa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data corruption &amp; not because of application err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-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69280" y="1600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9720" y="1905120"/>
            <a:ext cx="831708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&amp;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Cargo Acceptance, Customer and RFS Set-up modules 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encoding of sea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Cargo Acceptance module to capture reference id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rdless of length, of British Embassy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of hardware, network and system for RCBC money remit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bling and rehabilitation of Durian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in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Invoice Transit Time Browser to exclude sunday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i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9:21:14Z</dcterms:created>
  <dc:creator>Mymy Rapes</dc:creator>
  <dc:description/>
  <dc:language>en-US</dc:language>
  <cp:lastModifiedBy>akp616</cp:lastModifiedBy>
  <dcterms:modified xsi:type="dcterms:W3CDTF">2003-10-30T01:32:37Z</dcterms:modified>
  <cp:revision>234</cp:revision>
  <dc:subject/>
  <dc:title>PowerPoint Presentation</dc:title>
</cp:coreProperties>
</file>