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07CFF-6F9F-4DF1-9F5B-EC6A80ED4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3408-9354-4100-9632-015FFBB2E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6D07C-9A63-4233-BAEF-AEDA923A3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6C121-1C14-451A-92A4-5A18332FF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BDCED-B24A-4212-A21A-B60C713E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FAC2F-1863-4209-8656-6662AA982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50C3-71BB-4522-9EC7-B762BDFD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4B570-FDF8-492A-858C-A1BD629D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DFF65-E0BC-4B1D-B6E7-F7E682405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C4F8F-EFEC-408D-8F37-F41689500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6238C-671B-42E8-A9B7-37F648B0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194C4-2226-4A4A-894B-0591A74A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1D1E-13C3-4C60-A658-740D8ADB4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37C93-9881-4568-ABEF-29ADBB0F3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CDDAF-418A-4E43-8D18-DF99C8223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B6393-36AA-4CEB-A3DD-6F9A76A14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C6697-E3C0-45B7-B069-AA5FA6283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8D8E-C136-4D5B-8A39-D6FFFFAD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EBE2-0DAE-40C4-8938-8462259C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EA3B-160B-42AB-BA91-2C2860C8C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E2668-DCC5-43E1-AAF6-C224CFB7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3DFF-D54A-46EA-AC1F-EB67F0B5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9FB78-4CDC-4E3A-B6A0-77E27E9D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BFBD-7474-44DB-91E0-CA97A3AE4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4968-4856-4B3E-B400-D0BC7F5BFB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9A51-2C85-4ACE-B084-79CCC8643D2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3712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lanced Scorecard Case ~</a:t>
            </a:r>
            <a:br>
              <a:rPr sz="4000"/>
            </a:br>
            <a:r>
              <a:rPr b="0" lang="en-US" sz="4000" spc="-1" strike="noStrike">
                <a:solidFill>
                  <a:srgbClr val="333399"/>
                </a:solidFill>
                <a:latin typeface="Tahoma"/>
              </a:rPr>
              <a:t>Institute for Learning</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505320"/>
            <a:ext cx="6934320" cy="213336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ared for: Eric Cousineau</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Performance Measurement</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S 0277-02W-A03</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pared by: Joanne C Brown</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S Student # 11547508</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ril 30, 2002.</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stitute for Learning (IFL) is the corporate university for Bank of Montrea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a functional group within corporate services, the IFL has strategic partnerships with HR, LOB executives, the Office of Strategic Management and National/Divisional Branch Service Offic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artnership with HR is specifically focused on the Performance Support Network that enables workforce development plans and program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formance Support Network is responsible for identification of strengths and weaknesses in BMO’s workforce, and creating a performance management process that delivers consistent performance from a critical mass of the workforce.  This group is also responsible for aligning compensation with performan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se study presented in the following slides, is based on 6 years as an employee of Bank of Montreal ~ specifically as a Project Manager and Relationship Manager at the Institute for Learning.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hough the IFL does not represent a corporate wide case study for the application of a Balanced Scorecard strategic measurement process, the IFL is a distinct functional group with a unique composite skill-set and creating a customized scorecard for the IFL is worth investig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ground information, IFL challenges, current performance measures, and recommendations for a BSC approach to measurement follow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cus of IFL Work</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FL is responsible for the analysis, design, development and implementation of learning programs that meet organizational needs as declared through Workforce Assessment team and the Performance Management group.</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ing programs may be large group events (conferences), facilitated classroom learning, distributed self-study, e-learning via a combination of synchronous and asynchronous activiti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FL is funded by corporate dollars from each LOB (% of total operating capital), through user fees, and direct-funded projects from various strategic initiatives underway at BMO.</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ddition to the specific learning programs and projects, the IFL must fund expenses associated with the operation of the corporate university which include 120 residential rooms, 25 classrooms, library, presentation halls and dining hall.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L Challeng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formance of leadership team and staff of the IFL is measured primarily based on the same metrics as corporate services, which in turn is measured primarily on financial result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rporate service groups are “indirectly” responsible for achievement of organizational sales and service goals, so their financial performance is a reflection of their ability to reduce expenses – not generate revenu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reducing expenses is oftentimes not positioned vise a vis effective use of corporate dollars or ability to leverage previous project deliverables;  it is mostly an indicator of meeting organizational needs ( not usually well defined) with fewer dolla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L performance is measured this way also.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L Challenges con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asuring almost exclusively on ability to reduce operating expense while team based incentive pay does not reward this on an individual basis is a definite disconnect.  I am not proposing that IFL staff be measured ONLY on their ability to reduce costs, but without some form of compensation for those who manage and spend corporate dollars more effectively, there is very little incentive to do so.</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ample</a:t>
            </a:r>
            <a:r>
              <a:rPr b="0" lang="en-US" sz="1600" spc="-1" strike="noStrike">
                <a:solidFill>
                  <a:srgbClr val="000000"/>
                </a:solidFill>
                <a:latin typeface="Tahoma"/>
              </a:rPr>
              <a:t> – a project that I am responsible for has a forecast cost of $840M over 9 months.  As at the end of Q2 (4 months of elapsed project time), there is a $77M budget surplus.  My projections are that the total project cost will likely be about $130M less than originally forecast.   Upon sharing this information with the project sponsor, I indicated that  incentive pay to team members based </a:t>
            </a:r>
            <a:r>
              <a:rPr b="0" i="1" lang="en-US" sz="1600" spc="-1" strike="noStrike">
                <a:solidFill>
                  <a:srgbClr val="000000"/>
                </a:solidFill>
                <a:latin typeface="Tahoma"/>
              </a:rPr>
              <a:t>partly</a:t>
            </a:r>
            <a:r>
              <a:rPr b="0" lang="en-US" sz="1600" spc="-1" strike="noStrike">
                <a:solidFill>
                  <a:srgbClr val="000000"/>
                </a:solidFill>
                <a:latin typeface="Tahoma"/>
              </a:rPr>
              <a:t> on spending less dollars would be an appropriate and well-received bonus. The sponsor’s response was that we find a way to spend the dollars before Q4 so that our cost estimates were not questioned ~ rather than incent the team to continue hard-work with fewer project resources.  This seems very counter-productive, especially given current pressure on corporate dollar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L Challenges con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other challenge facing the IFL is the lack of understanding of how IFL projects and programs are linked with overall corporate strategy.  As declared in the 2000 Employee Opinion Survey, IFL staff are not clear on what BMO strategy means to them and the work they do, and how it is tied to their incentive pay program.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discussed by Berman in </a:t>
            </a:r>
            <a:r>
              <a:rPr b="0" lang="en-US" sz="2000" spc="-1" strike="noStrike" u="sng">
                <a:solidFill>
                  <a:srgbClr val="000000"/>
                </a:solidFill>
                <a:uFillTx/>
                <a:latin typeface="Tahoma"/>
              </a:rPr>
              <a:t>Using the Balanced Scorecard in Strategic</a:t>
            </a:r>
            <a:r>
              <a:rPr b="0" lang="en-US" sz="2000" spc="-1" strike="noStrike">
                <a:solidFill>
                  <a:srgbClr val="000000"/>
                </a:solidFill>
                <a:latin typeface="Tahoma"/>
              </a:rPr>
              <a:t> </a:t>
            </a:r>
            <a:r>
              <a:rPr b="0" lang="en-US" sz="2000" spc="-1" strike="noStrike" u="sng">
                <a:solidFill>
                  <a:srgbClr val="000000"/>
                </a:solidFill>
                <a:uFillTx/>
                <a:latin typeface="Tahoma"/>
              </a:rPr>
              <a:t>Compensation</a:t>
            </a:r>
            <a:r>
              <a:rPr b="0" lang="en-US" sz="2000" spc="-1" strike="noStrike">
                <a:solidFill>
                  <a:srgbClr val="000000"/>
                </a:solidFill>
                <a:latin typeface="Tahoma"/>
              </a:rPr>
              <a:t>, the introduction of a BSC can become a bridge between compensation strategy and the strategic plan of an organiz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mployee Opinion Survey also reflected frustration among staff relative to understanding career progression and promotion opportunities at the IFL.  Anecdotal evidence suggests that people are assigned to various projects based on questionable human resource planning process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14200"/>
            <a:ext cx="8077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Informal</a:t>
            </a:r>
            <a:r>
              <a:rPr b="0" lang="en-US" sz="3600" spc="-1" strike="noStrike">
                <a:solidFill>
                  <a:srgbClr val="333399"/>
                </a:solidFill>
                <a:latin typeface="Tahoma"/>
              </a:rPr>
              <a:t> Performance Measures at IFL</a:t>
            </a:r>
            <a:endParaRPr b="0" lang="en-US" sz="36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20:16:23Z</dcterms:created>
  <dc:creator>Joanne C. Brown</dc:creator>
  <dc:description/>
  <dc:language>en-US</dc:language>
  <cp:lastModifiedBy>Joanne C. Brown</cp:lastModifiedBy>
  <dcterms:modified xsi:type="dcterms:W3CDTF">2002-04-28T20:55:23Z</dcterms:modified>
  <cp:revision>24</cp:revision>
  <dc:subject/>
  <dc:title>Balanced Scorecard Case~ Institute for Learning</dc:title>
</cp:coreProperties>
</file>