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0503-DD6A-4DBD-8A79-777AAB40D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C6AB-B4FA-4F0C-A87E-42F264BE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57F6-E190-4C70-A4FB-1BE271AE3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10D5-D00C-4772-B2B2-2C19CDB60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B339-3ACE-4D33-B8AE-16D371B2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6600-74A1-4239-BE6C-4D9E1A11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0169-9460-44BD-AD83-895D655E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991D-D026-4683-82CC-458584D8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31DA-4F0C-45AF-814C-211054FB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B1FA-C12F-417F-BC7D-367C2786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9416-78F6-4340-9B0F-374C7470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CC7C-4A57-4D68-A477-6969CAA3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211A-5F1A-4964-8801-001300892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0456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FS Redesign 200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sentation to IFL 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30456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FS Re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e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pond to end-user and organizational concerns relative to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FS as a Workforce Development Syst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elop a strategy for LFS as a learning platform &amp; program which would leverage technology and reduce costs associated with multiple delivery channe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sul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te redesign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ent redesign -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30456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FS Redesig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y Features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ent restructured to create new information architectu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ynamic menu to improve navigational o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of advanced technologies to make content more engag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bility to track learning activity through datab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graphics to give the site a fresh look and fe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30456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ormation Architecture &amp; Navi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ld LFS ~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learning streams and 70 modu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LFS ~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 learning streams, 32 se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208 mod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0456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ormation Architecture &amp; Navi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ld LFS ~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LFS 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eration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sh Operation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nch Administ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uman Resourc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uman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sonal Le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ales &amp; Servic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eryday Ban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tail Invest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ales &amp;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ust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adership &amp; Chang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adership &amp; Chang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31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133720" y="30481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3124080"/>
            <a:ext cx="2590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37339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44197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38280" y="4495680"/>
            <a:ext cx="2362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45720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4572000"/>
            <a:ext cx="2286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438280" y="4114440"/>
            <a:ext cx="2362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57150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456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k Learning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vity to LAPS is used in combination with the new LFS site database to record and store learner activity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letion of activities, self-checks and review of module content is done when learners log-i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 elements of learning content are available to those NOT logged-in, however their activity is not track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0456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ent Redesign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gage users with the cont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 content that is quicker to “digest”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 navigational options that enable learners to get to information and advice more efficient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cus of content redesign was placed on Cash Oper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0456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FS – 2003 Plan Overvi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inue content redesign – streamline volume of content and recreate modules similar to Cash Ops modu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3T18:07:15Z</dcterms:created>
  <dc:creator>kkalfus</dc:creator>
  <dc:description/>
  <dc:language>en-US</dc:language>
  <cp:lastModifiedBy>Inistitute for Learning</cp:lastModifiedBy>
  <dcterms:modified xsi:type="dcterms:W3CDTF">2002-09-26T20:35:10Z</dcterms:modified>
  <cp:revision>29</cp:revision>
  <dc:subject/>
  <dc:title>PowerPoint Presentation</dc:title>
</cp:coreProperties>
</file>