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CFDBA-52F5-4AA0-A346-CB2DC3088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BD10A-B3FA-4B46-9246-05FDA52BD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A06C1-EB63-4BB3-B509-D05AB6286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9477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242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2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9477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242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64193-2EC3-4BB4-8777-D6CFE797E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DDE76-4291-4351-AD1A-21F40A48B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4706F-AA4B-4BCF-8DD8-2504752F3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8F8CB-9F5A-4503-8C69-662C2570A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145EA-107D-4851-9A64-AF3FDF4EC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B4C27-FC0A-4A91-AAE7-6A7930E78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371240" y="533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48A94-E366-4DC8-8615-7F8446EEA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5DFD1-8E4C-4C35-A8D7-AE29D8EE9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57069-22E0-44CE-9457-01ED08208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9D75C-06A8-4B56-9262-E759A07AC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FADD5-9703-43DA-A5AC-E816A4B35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F93B1-CE9C-4B3C-94F3-AADD5BC1A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724CF-7996-4D2D-9153-949F869EE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9477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5242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3712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9477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5242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500F3-8CFD-4A64-A197-16C064BE1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A9041-9913-4B2A-8FD5-8124692AC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AC27F-9392-4DEE-8089-2BE5178F9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7E3D0-070F-4A2E-BB10-EAE5DFB6F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371240" y="533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14E70-82CB-44DE-9DFD-E6C2469D5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C8BC1-1B75-4185-A609-1FF2068C0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24D14-489B-4E98-8BCD-A3A3F1D36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F3D90-763F-4C48-A95E-E7FB48863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3712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342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F4DB5-698C-4312-902D-0D3F96EC44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strtegic1" descr=""/>
          <p:cNvPicPr/>
          <p:nvPr/>
        </p:nvPicPr>
        <p:blipFill>
          <a:blip r:embed="rId2"/>
          <a:stretch/>
        </p:blipFill>
        <p:spPr>
          <a:xfrm>
            <a:off x="0" y="0"/>
            <a:ext cx="1219320" cy="68580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8695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12AEC-8F97-4B0B-B1B8-E7C591964BB2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8695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mailto:BobbyMcDonaldA3@Yahoo.com" TargetMode="External"/><Relationship Id="rId2" Type="http://schemas.openxmlformats.org/officeDocument/2006/relationships/hyperlink" Target="http://www.geocities.com/BobbyMcDonaldA3/index.html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86950"/>
                </a:solidFill>
                <a:latin typeface="Times New Roman"/>
              </a:rPr>
              <a:t>Fun-N-Sun Sojourn</a:t>
            </a: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114800" y="3580920"/>
            <a:ext cx="396072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86950"/>
                </a:solidFill>
                <a:latin typeface="Times New Roman"/>
              </a:rPr>
              <a:t>Travel Agency</a:t>
            </a: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371240" y="38052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Specializing in Beach Resorts</a:t>
            </a:r>
            <a:br>
              <a:rPr sz="4400"/>
            </a:b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333760" y="2514600"/>
            <a:ext cx="380988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hamas Rep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ytona Delig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 West Hav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uth Padre Del S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beach" descr=""/>
          <p:cNvPicPr/>
          <p:nvPr/>
        </p:nvPicPr>
        <p:blipFill>
          <a:blip r:embed="rId1"/>
          <a:stretch/>
        </p:blipFill>
        <p:spPr>
          <a:xfrm>
            <a:off x="1295280" y="1981080"/>
            <a:ext cx="4038840" cy="30481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8" name=""/>
          <p:cNvGraphicFramePr/>
          <p:nvPr/>
        </p:nvGraphicFramePr>
        <p:xfrm>
          <a:off x="2286000" y="762120"/>
          <a:ext cx="5715000" cy="1966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762120"/>
                    <a:ext cx="5715000" cy="19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" name=""/>
          <p:cNvGraphicFramePr/>
          <p:nvPr/>
        </p:nvGraphicFramePr>
        <p:xfrm>
          <a:off x="2286000" y="3048120"/>
          <a:ext cx="5791320" cy="25905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0" y="3048120"/>
                    <a:ext cx="5791320" cy="259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6600"/>
                </a:solidFill>
                <a:latin typeface="Times New Roman"/>
              </a:rPr>
              <a:t>We leave from a marina near you</a:t>
            </a:r>
            <a:endParaRPr b="0" lang="en-US" sz="40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122640" y="2084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2362320" y="1828800"/>
            <a:ext cx="5339880" cy="4016160"/>
            <a:chOff x="2362320" y="1828800"/>
            <a:chExt cx="5339880" cy="4016160"/>
          </a:xfrm>
        </p:grpSpPr>
        <p:grpSp>
          <p:nvGrpSpPr>
            <p:cNvPr id="95" name=""/>
            <p:cNvGrpSpPr/>
            <p:nvPr/>
          </p:nvGrpSpPr>
          <p:grpSpPr>
            <a:xfrm>
              <a:off x="2370600" y="1835640"/>
              <a:ext cx="5321520" cy="4001400"/>
              <a:chOff x="2370600" y="1835640"/>
              <a:chExt cx="5321520" cy="4001400"/>
            </a:xfrm>
          </p:grpSpPr>
          <p:grpSp>
            <p:nvGrpSpPr>
              <p:cNvPr id="96" name=""/>
              <p:cNvGrpSpPr/>
              <p:nvPr/>
            </p:nvGrpSpPr>
            <p:grpSpPr>
              <a:xfrm>
                <a:off x="2370600" y="1835640"/>
                <a:ext cx="1928880" cy="363240"/>
                <a:chOff x="2370600" y="1835640"/>
                <a:chExt cx="1928880" cy="363240"/>
              </a:xfrm>
            </p:grpSpPr>
            <p:sp>
              <p:nvSpPr>
                <p:cNvPr id="97" name=""/>
                <p:cNvSpPr/>
                <p:nvPr/>
              </p:nvSpPr>
              <p:spPr>
                <a:xfrm>
                  <a:off x="2370600" y="1835640"/>
                  <a:ext cx="1928880" cy="36324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98" name=""/>
                <p:cNvGrpSpPr/>
                <p:nvPr/>
              </p:nvGrpSpPr>
              <p:grpSpPr>
                <a:xfrm>
                  <a:off x="2370600" y="1835640"/>
                  <a:ext cx="1928520" cy="362880"/>
                  <a:chOff x="2370600" y="1835640"/>
                  <a:chExt cx="1928520" cy="36288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>
                    <a:off x="2370600" y="1835640"/>
                    <a:ext cx="1928520" cy="36288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Name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>
                    <a:off x="2370600" y="1835640"/>
                    <a:ext cx="1928520" cy="362880"/>
                  </a:xfrm>
                  <a:prstGeom prst="rect">
                    <a:avLst/>
                  </a:prstGeom>
                  <a:noFill/>
                  <a:ln cap="sq"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1" name=""/>
              <p:cNvGrpSpPr/>
              <p:nvPr/>
            </p:nvGrpSpPr>
            <p:grpSpPr>
              <a:xfrm>
                <a:off x="4299840" y="1835640"/>
                <a:ext cx="1920240" cy="363240"/>
                <a:chOff x="4299840" y="1835640"/>
                <a:chExt cx="1920240" cy="363240"/>
              </a:xfrm>
            </p:grpSpPr>
            <p:sp>
              <p:nvSpPr>
                <p:cNvPr id="102" name=""/>
                <p:cNvSpPr/>
                <p:nvPr/>
              </p:nvSpPr>
              <p:spPr>
                <a:xfrm>
                  <a:off x="4299840" y="1835640"/>
                  <a:ext cx="1920240" cy="36324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3" name=""/>
                <p:cNvGrpSpPr/>
                <p:nvPr/>
              </p:nvGrpSpPr>
              <p:grpSpPr>
                <a:xfrm>
                  <a:off x="4299840" y="1835640"/>
                  <a:ext cx="1919880" cy="362880"/>
                  <a:chOff x="4299840" y="1835640"/>
                  <a:chExt cx="1919880" cy="362880"/>
                </a:xfrm>
              </p:grpSpPr>
              <p:sp>
                <p:nvSpPr>
                  <p:cNvPr id="104" name=""/>
                  <p:cNvSpPr/>
                  <p:nvPr/>
                </p:nvSpPr>
                <p:spPr>
                  <a:xfrm>
                    <a:off x="4299840" y="1835640"/>
                    <a:ext cx="1919880" cy="36288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Address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>
                    <a:off x="4299840" y="1835640"/>
                    <a:ext cx="1919880" cy="362880"/>
                  </a:xfrm>
                  <a:prstGeom prst="rect">
                    <a:avLst/>
                  </a:prstGeom>
                  <a:noFill/>
                  <a:ln cap="sq"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6" name=""/>
              <p:cNvGrpSpPr/>
              <p:nvPr/>
            </p:nvGrpSpPr>
            <p:grpSpPr>
              <a:xfrm>
                <a:off x="6220800" y="1835640"/>
                <a:ext cx="1471320" cy="363240"/>
                <a:chOff x="6220800" y="1835640"/>
                <a:chExt cx="1471320" cy="363240"/>
              </a:xfrm>
            </p:grpSpPr>
            <p:sp>
              <p:nvSpPr>
                <p:cNvPr id="107" name=""/>
                <p:cNvSpPr/>
                <p:nvPr/>
              </p:nvSpPr>
              <p:spPr>
                <a:xfrm>
                  <a:off x="6220800" y="1835640"/>
                  <a:ext cx="1471320" cy="36324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8" name=""/>
                <p:cNvGrpSpPr/>
                <p:nvPr/>
              </p:nvGrpSpPr>
              <p:grpSpPr>
                <a:xfrm>
                  <a:off x="6220800" y="1835640"/>
                  <a:ext cx="1470960" cy="362880"/>
                  <a:chOff x="6220800" y="1835640"/>
                  <a:chExt cx="1470960" cy="362880"/>
                </a:xfrm>
              </p:grpSpPr>
              <p:sp>
                <p:nvSpPr>
                  <p:cNvPr id="109" name=""/>
                  <p:cNvSpPr/>
                  <p:nvPr/>
                </p:nvSpPr>
                <p:spPr>
                  <a:xfrm>
                    <a:off x="6220800" y="1835640"/>
                    <a:ext cx="1470960" cy="36288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City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>
                    <a:off x="6220800" y="1835640"/>
                    <a:ext cx="1470960" cy="362880"/>
                  </a:xfrm>
                  <a:prstGeom prst="rect">
                    <a:avLst/>
                  </a:prstGeom>
                  <a:noFill/>
                  <a:ln cap="sq"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11" name=""/>
              <p:cNvGrpSpPr/>
              <p:nvPr/>
            </p:nvGrpSpPr>
            <p:grpSpPr>
              <a:xfrm>
                <a:off x="2370600" y="2199240"/>
                <a:ext cx="1928880" cy="363240"/>
                <a:chOff x="2370600" y="2199240"/>
                <a:chExt cx="1928880" cy="363240"/>
              </a:xfrm>
            </p:grpSpPr>
            <p:sp>
              <p:nvSpPr>
                <p:cNvPr id="112" name=""/>
                <p:cNvSpPr/>
                <p:nvPr/>
              </p:nvSpPr>
              <p:spPr>
                <a:xfrm>
                  <a:off x="2370600" y="2199240"/>
                  <a:ext cx="1928880" cy="363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Alan's Dock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2370600" y="2199240"/>
                  <a:ext cx="1928880" cy="363240"/>
                </a:xfrm>
                <a:prstGeom prst="rect">
                  <a:avLst/>
                </a:prstGeom>
                <a:noFill/>
                <a:ln cap="sq" w="0">
                  <a:solidFill>
                    <a:srgbClr val="c0c0c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" name=""/>
              <p:cNvGrpSpPr/>
              <p:nvPr/>
            </p:nvGrpSpPr>
            <p:grpSpPr>
              <a:xfrm>
                <a:off x="4299840" y="2199240"/>
                <a:ext cx="1920240" cy="363240"/>
                <a:chOff x="4299840" y="2199240"/>
                <a:chExt cx="1920240" cy="363240"/>
              </a:xfrm>
            </p:grpSpPr>
            <p:sp>
              <p:nvSpPr>
                <p:cNvPr id="115" name=""/>
                <p:cNvSpPr/>
                <p:nvPr/>
              </p:nvSpPr>
              <p:spPr>
                <a:xfrm>
                  <a:off x="4299840" y="2199240"/>
                  <a:ext cx="1920240" cy="363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314 Central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4299840" y="2199240"/>
                  <a:ext cx="1920240" cy="363240"/>
                </a:xfrm>
                <a:prstGeom prst="rect">
                  <a:avLst/>
                </a:prstGeom>
                <a:noFill/>
                <a:ln cap="sq" w="0">
                  <a:solidFill>
                    <a:srgbClr val="c0c0c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7" name=""/>
              <p:cNvGrpSpPr/>
              <p:nvPr/>
            </p:nvGrpSpPr>
            <p:grpSpPr>
              <a:xfrm>
                <a:off x="6220800" y="2199240"/>
                <a:ext cx="1471320" cy="363240"/>
                <a:chOff x="6220800" y="2199240"/>
                <a:chExt cx="1471320" cy="363240"/>
              </a:xfrm>
            </p:grpSpPr>
            <p:sp>
              <p:nvSpPr>
                <p:cNvPr id="118" name=""/>
                <p:cNvSpPr/>
                <p:nvPr/>
              </p:nvSpPr>
              <p:spPr>
                <a:xfrm>
                  <a:off x="6220800" y="2199240"/>
                  <a:ext cx="1471320" cy="363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Burto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6220800" y="2199240"/>
                  <a:ext cx="1471320" cy="363240"/>
                </a:xfrm>
                <a:prstGeom prst="rect">
                  <a:avLst/>
                </a:prstGeom>
                <a:noFill/>
                <a:ln cap="sq" w="0">
                  <a:solidFill>
                    <a:srgbClr val="c0c0c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0" name=""/>
              <p:cNvGrpSpPr/>
              <p:nvPr/>
            </p:nvGrpSpPr>
            <p:grpSpPr>
              <a:xfrm>
                <a:off x="2370600" y="2562840"/>
                <a:ext cx="1928880" cy="363240"/>
                <a:chOff x="2370600" y="2562840"/>
                <a:chExt cx="1928880" cy="363240"/>
              </a:xfrm>
            </p:grpSpPr>
            <p:sp>
              <p:nvSpPr>
                <p:cNvPr id="121" name=""/>
                <p:cNvSpPr/>
                <p:nvPr/>
              </p:nvSpPr>
              <p:spPr>
                <a:xfrm>
                  <a:off x="2370600" y="2562840"/>
                  <a:ext cx="1928880" cy="363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Afton's Marina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2370600" y="2562840"/>
                  <a:ext cx="1928880" cy="363240"/>
                </a:xfrm>
                <a:prstGeom prst="rect">
                  <a:avLst/>
                </a:prstGeom>
                <a:noFill/>
                <a:ln cap="sq" w="0">
                  <a:solidFill>
                    <a:srgbClr val="c0c0c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3" name=""/>
              <p:cNvGrpSpPr/>
              <p:nvPr/>
            </p:nvGrpSpPr>
            <p:grpSpPr>
              <a:xfrm>
                <a:off x="4299840" y="2562840"/>
                <a:ext cx="1920240" cy="363240"/>
                <a:chOff x="4299840" y="2562840"/>
                <a:chExt cx="1920240" cy="363240"/>
              </a:xfrm>
            </p:grpSpPr>
            <p:sp>
              <p:nvSpPr>
                <p:cNvPr id="124" name=""/>
                <p:cNvSpPr/>
                <p:nvPr/>
              </p:nvSpPr>
              <p:spPr>
                <a:xfrm>
                  <a:off x="4299840" y="2562840"/>
                  <a:ext cx="1920240" cy="363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1 West 8th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4299840" y="2562840"/>
                  <a:ext cx="1920240" cy="363240"/>
                </a:xfrm>
                <a:prstGeom prst="rect">
                  <a:avLst/>
                </a:prstGeom>
                <a:noFill/>
                <a:ln cap="sq" w="0">
                  <a:solidFill>
                    <a:srgbClr val="c0c0c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6" name=""/>
              <p:cNvGrpSpPr/>
              <p:nvPr/>
            </p:nvGrpSpPr>
            <p:grpSpPr>
              <a:xfrm>
                <a:off x="6220800" y="2562840"/>
                <a:ext cx="1471320" cy="363240"/>
                <a:chOff x="6220800" y="2562840"/>
                <a:chExt cx="1471320" cy="36324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6220800" y="2562840"/>
                  <a:ext cx="1471320" cy="363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Glenview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6220800" y="2562840"/>
                  <a:ext cx="1471320" cy="363240"/>
                </a:xfrm>
                <a:prstGeom prst="rect">
                  <a:avLst/>
                </a:prstGeom>
                <a:noFill/>
                <a:ln cap="sq" w="0">
                  <a:solidFill>
                    <a:srgbClr val="c0c0c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" name=""/>
              <p:cNvGrpSpPr/>
              <p:nvPr/>
            </p:nvGrpSpPr>
            <p:grpSpPr>
              <a:xfrm>
                <a:off x="2370600" y="2926800"/>
                <a:ext cx="1928880" cy="363240"/>
                <a:chOff x="2370600" y="2926800"/>
                <a:chExt cx="1928880" cy="363240"/>
              </a:xfrm>
            </p:grpSpPr>
            <p:sp>
              <p:nvSpPr>
                <p:cNvPr id="130" name=""/>
                <p:cNvSpPr/>
                <p:nvPr/>
              </p:nvSpPr>
              <p:spPr>
                <a:xfrm>
                  <a:off x="2370600" y="2926800"/>
                  <a:ext cx="1928880" cy="363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Brites Landing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2370600" y="2926800"/>
                  <a:ext cx="1928880" cy="363240"/>
                </a:xfrm>
                <a:prstGeom prst="rect">
                  <a:avLst/>
                </a:prstGeom>
                <a:noFill/>
                <a:ln cap="sq" w="0">
                  <a:solidFill>
                    <a:srgbClr val="c0c0c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" name=""/>
              <p:cNvGrpSpPr/>
              <p:nvPr/>
            </p:nvGrpSpPr>
            <p:grpSpPr>
              <a:xfrm>
                <a:off x="4299840" y="2926800"/>
                <a:ext cx="1920240" cy="363240"/>
                <a:chOff x="4299840" y="2926800"/>
                <a:chExt cx="1920240" cy="3632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4299840" y="2926800"/>
                  <a:ext cx="1920240" cy="363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81 Robi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4299840" y="2926800"/>
                  <a:ext cx="1920240" cy="363240"/>
                </a:xfrm>
                <a:prstGeom prst="rect">
                  <a:avLst/>
                </a:prstGeom>
                <a:noFill/>
                <a:ln cap="sq" w="0">
                  <a:solidFill>
                    <a:srgbClr val="c0c0c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" name=""/>
              <p:cNvGrpSpPr/>
              <p:nvPr/>
            </p:nvGrpSpPr>
            <p:grpSpPr>
              <a:xfrm>
                <a:off x="6220800" y="2926800"/>
                <a:ext cx="1471320" cy="363240"/>
                <a:chOff x="6220800" y="2926800"/>
                <a:chExt cx="1471320" cy="36324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6220800" y="2926800"/>
                  <a:ext cx="1471320" cy="363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Burto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6220800" y="2926800"/>
                  <a:ext cx="1471320" cy="363240"/>
                </a:xfrm>
                <a:prstGeom prst="rect">
                  <a:avLst/>
                </a:prstGeom>
                <a:noFill/>
                <a:ln cap="sq" w="0">
                  <a:solidFill>
                    <a:srgbClr val="c0c0c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" name=""/>
              <p:cNvGrpSpPr/>
              <p:nvPr/>
            </p:nvGrpSpPr>
            <p:grpSpPr>
              <a:xfrm>
                <a:off x="2370600" y="3290400"/>
                <a:ext cx="1928880" cy="363240"/>
                <a:chOff x="2370600" y="3290400"/>
                <a:chExt cx="1928880" cy="363240"/>
              </a:xfrm>
            </p:grpSpPr>
            <p:sp>
              <p:nvSpPr>
                <p:cNvPr id="139" name=""/>
                <p:cNvSpPr/>
                <p:nvPr/>
              </p:nvSpPr>
              <p:spPr>
                <a:xfrm>
                  <a:off x="2370600" y="3290400"/>
                  <a:ext cx="1928880" cy="363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Elend Marina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2370600" y="3290400"/>
                  <a:ext cx="1928880" cy="363240"/>
                </a:xfrm>
                <a:prstGeom prst="rect">
                  <a:avLst/>
                </a:prstGeom>
                <a:noFill/>
                <a:ln cap="sq" w="0">
                  <a:solidFill>
                    <a:srgbClr val="c0c0c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" name=""/>
              <p:cNvGrpSpPr/>
              <p:nvPr/>
            </p:nvGrpSpPr>
            <p:grpSpPr>
              <a:xfrm>
                <a:off x="4299840" y="3290400"/>
                <a:ext cx="1920240" cy="363240"/>
                <a:chOff x="4299840" y="3290400"/>
                <a:chExt cx="1920240" cy="363240"/>
              </a:xfrm>
            </p:grpSpPr>
            <p:sp>
              <p:nvSpPr>
                <p:cNvPr id="142" name=""/>
                <p:cNvSpPr/>
                <p:nvPr/>
              </p:nvSpPr>
              <p:spPr>
                <a:xfrm>
                  <a:off x="4299840" y="3290400"/>
                  <a:ext cx="1920240" cy="363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462 River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299840" y="3290400"/>
                  <a:ext cx="1920240" cy="363240"/>
                </a:xfrm>
                <a:prstGeom prst="rect">
                  <a:avLst/>
                </a:prstGeom>
                <a:noFill/>
                <a:ln cap="sq" w="0">
                  <a:solidFill>
                    <a:srgbClr val="c0c0c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6220800" y="3290400"/>
                <a:ext cx="1471320" cy="363240"/>
                <a:chOff x="6220800" y="3290400"/>
                <a:chExt cx="1471320" cy="363240"/>
              </a:xfrm>
            </p:grpSpPr>
            <p:sp>
              <p:nvSpPr>
                <p:cNvPr id="145" name=""/>
                <p:cNvSpPr/>
                <p:nvPr/>
              </p:nvSpPr>
              <p:spPr>
                <a:xfrm>
                  <a:off x="6220800" y="3290400"/>
                  <a:ext cx="1471320" cy="363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Torino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220800" y="3290400"/>
                  <a:ext cx="1471320" cy="363240"/>
                </a:xfrm>
                <a:prstGeom prst="rect">
                  <a:avLst/>
                </a:prstGeom>
                <a:noFill/>
                <a:ln cap="sq" w="0">
                  <a:solidFill>
                    <a:srgbClr val="c0c0c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" name=""/>
              <p:cNvGrpSpPr/>
              <p:nvPr/>
            </p:nvGrpSpPr>
            <p:grpSpPr>
              <a:xfrm>
                <a:off x="2370600" y="3654360"/>
                <a:ext cx="1928880" cy="363600"/>
                <a:chOff x="2370600" y="3654360"/>
                <a:chExt cx="1928880" cy="363600"/>
              </a:xfrm>
            </p:grpSpPr>
            <p:sp>
              <p:nvSpPr>
                <p:cNvPr id="148" name=""/>
                <p:cNvSpPr/>
                <p:nvPr/>
              </p:nvSpPr>
              <p:spPr>
                <a:xfrm>
                  <a:off x="2370600" y="3654360"/>
                  <a:ext cx="1928880" cy="363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Fenton's Boat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2370600" y="3654360"/>
                  <a:ext cx="1928880" cy="363600"/>
                </a:xfrm>
                <a:prstGeom prst="rect">
                  <a:avLst/>
                </a:prstGeom>
                <a:noFill/>
                <a:ln cap="sq" w="0">
                  <a:solidFill>
                    <a:srgbClr val="c0c0c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4299840" y="3654360"/>
                <a:ext cx="1920240" cy="363600"/>
                <a:chOff x="4299840" y="3654360"/>
                <a:chExt cx="1920240" cy="36360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4299840" y="3654360"/>
                  <a:ext cx="1920240" cy="363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36 Bayview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4299840" y="3654360"/>
                  <a:ext cx="1920240" cy="363600"/>
                </a:xfrm>
                <a:prstGeom prst="rect">
                  <a:avLst/>
                </a:prstGeom>
                <a:noFill/>
                <a:ln cap="sq" w="0">
                  <a:solidFill>
                    <a:srgbClr val="c0c0c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6220800" y="3654360"/>
                <a:ext cx="1471320" cy="363600"/>
                <a:chOff x="6220800" y="3654360"/>
                <a:chExt cx="1471320" cy="36360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6220800" y="3654360"/>
                  <a:ext cx="1471320" cy="363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Cavela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6220800" y="3654360"/>
                  <a:ext cx="1471320" cy="363600"/>
                </a:xfrm>
                <a:prstGeom prst="rect">
                  <a:avLst/>
                </a:prstGeom>
                <a:noFill/>
                <a:ln cap="sq" w="0">
                  <a:solidFill>
                    <a:srgbClr val="c0c0c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6" name=""/>
              <p:cNvGrpSpPr/>
              <p:nvPr/>
            </p:nvGrpSpPr>
            <p:grpSpPr>
              <a:xfrm>
                <a:off x="2370600" y="4018680"/>
                <a:ext cx="1928880" cy="363240"/>
                <a:chOff x="2370600" y="4018680"/>
                <a:chExt cx="1928880" cy="36324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2370600" y="4018680"/>
                  <a:ext cx="1928880" cy="363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Fedder Maina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2370600" y="4018680"/>
                  <a:ext cx="1928880" cy="363240"/>
                </a:xfrm>
                <a:prstGeom prst="rect">
                  <a:avLst/>
                </a:prstGeom>
                <a:noFill/>
                <a:ln cap="sq" w="0">
                  <a:solidFill>
                    <a:srgbClr val="c0c0c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4299840" y="4018680"/>
                <a:ext cx="1920240" cy="363240"/>
                <a:chOff x="4299840" y="4018680"/>
                <a:chExt cx="1920240" cy="36324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4299840" y="4018680"/>
                  <a:ext cx="1920240" cy="363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83 Waterfront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4299840" y="4018680"/>
                  <a:ext cx="1920240" cy="363240"/>
                </a:xfrm>
                <a:prstGeom prst="rect">
                  <a:avLst/>
                </a:prstGeom>
                <a:noFill/>
                <a:ln cap="sq" w="0">
                  <a:solidFill>
                    <a:srgbClr val="c0c0c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6220800" y="4018680"/>
                <a:ext cx="1471320" cy="363240"/>
                <a:chOff x="6220800" y="4018680"/>
                <a:chExt cx="1471320" cy="36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6220800" y="4018680"/>
                  <a:ext cx="1471320" cy="363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Burto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6220800" y="4018680"/>
                  <a:ext cx="1471320" cy="363240"/>
                </a:xfrm>
                <a:prstGeom prst="rect">
                  <a:avLst/>
                </a:prstGeom>
                <a:noFill/>
                <a:ln cap="sq" w="0">
                  <a:solidFill>
                    <a:srgbClr val="c0c0c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5" name=""/>
              <p:cNvGrpSpPr/>
              <p:nvPr/>
            </p:nvGrpSpPr>
            <p:grpSpPr>
              <a:xfrm>
                <a:off x="2370600" y="4382280"/>
                <a:ext cx="1928880" cy="363240"/>
                <a:chOff x="2370600" y="4382280"/>
                <a:chExt cx="1928880" cy="36324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2370600" y="4382280"/>
                  <a:ext cx="1928880" cy="363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JT Boat Club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2370600" y="4382280"/>
                  <a:ext cx="1928880" cy="363240"/>
                </a:xfrm>
                <a:prstGeom prst="rect">
                  <a:avLst/>
                </a:prstGeom>
                <a:noFill/>
                <a:ln cap="sq" w="0">
                  <a:solidFill>
                    <a:srgbClr val="c0c0c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8" name=""/>
              <p:cNvGrpSpPr/>
              <p:nvPr/>
            </p:nvGrpSpPr>
            <p:grpSpPr>
              <a:xfrm>
                <a:off x="4299840" y="4382280"/>
                <a:ext cx="1920240" cy="363240"/>
                <a:chOff x="4299840" y="4382280"/>
                <a:chExt cx="1920240" cy="363240"/>
              </a:xfrm>
            </p:grpSpPr>
            <p:sp>
              <p:nvSpPr>
                <p:cNvPr id="169" name=""/>
                <p:cNvSpPr/>
                <p:nvPr/>
              </p:nvSpPr>
              <p:spPr>
                <a:xfrm>
                  <a:off x="4299840" y="4382280"/>
                  <a:ext cx="1920240" cy="363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8 Causeway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4299840" y="4382280"/>
                  <a:ext cx="1920240" cy="363240"/>
                </a:xfrm>
                <a:prstGeom prst="rect">
                  <a:avLst/>
                </a:prstGeom>
                <a:noFill/>
                <a:ln cap="sq" w="0">
                  <a:solidFill>
                    <a:srgbClr val="c0c0c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1" name=""/>
              <p:cNvGrpSpPr/>
              <p:nvPr/>
            </p:nvGrpSpPr>
            <p:grpSpPr>
              <a:xfrm>
                <a:off x="6220800" y="4382280"/>
                <a:ext cx="1471320" cy="363240"/>
                <a:chOff x="6220800" y="4382280"/>
                <a:chExt cx="1471320" cy="363240"/>
              </a:xfrm>
            </p:grpSpPr>
            <p:sp>
              <p:nvSpPr>
                <p:cNvPr id="172" name=""/>
                <p:cNvSpPr/>
                <p:nvPr/>
              </p:nvSpPr>
              <p:spPr>
                <a:xfrm>
                  <a:off x="6220800" y="4382280"/>
                  <a:ext cx="1471320" cy="363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Torino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6220800" y="4382280"/>
                  <a:ext cx="1471320" cy="363240"/>
                </a:xfrm>
                <a:prstGeom prst="rect">
                  <a:avLst/>
                </a:prstGeom>
                <a:noFill/>
                <a:ln cap="sq" w="0">
                  <a:solidFill>
                    <a:srgbClr val="c0c0c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4" name=""/>
              <p:cNvGrpSpPr/>
              <p:nvPr/>
            </p:nvGrpSpPr>
            <p:grpSpPr>
              <a:xfrm>
                <a:off x="2370600" y="4746240"/>
                <a:ext cx="1928880" cy="363240"/>
                <a:chOff x="2370600" y="4746240"/>
                <a:chExt cx="1928880" cy="363240"/>
              </a:xfrm>
            </p:grpSpPr>
            <p:sp>
              <p:nvSpPr>
                <p:cNvPr id="175" name=""/>
                <p:cNvSpPr/>
                <p:nvPr/>
              </p:nvSpPr>
              <p:spPr>
                <a:xfrm>
                  <a:off x="2370600" y="4746240"/>
                  <a:ext cx="1928880" cy="363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Nelson's Wharf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2370600" y="4746240"/>
                  <a:ext cx="1928880" cy="363240"/>
                </a:xfrm>
                <a:prstGeom prst="rect">
                  <a:avLst/>
                </a:prstGeom>
                <a:noFill/>
                <a:ln cap="sq" w="0">
                  <a:solidFill>
                    <a:srgbClr val="c0c0c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7" name=""/>
              <p:cNvGrpSpPr/>
              <p:nvPr/>
            </p:nvGrpSpPr>
            <p:grpSpPr>
              <a:xfrm>
                <a:off x="4299840" y="4746240"/>
                <a:ext cx="1920240" cy="363240"/>
                <a:chOff x="4299840" y="4746240"/>
                <a:chExt cx="1920240" cy="363240"/>
              </a:xfrm>
            </p:grpSpPr>
            <p:sp>
              <p:nvSpPr>
                <p:cNvPr id="178" name=""/>
                <p:cNvSpPr/>
                <p:nvPr/>
              </p:nvSpPr>
              <p:spPr>
                <a:xfrm>
                  <a:off x="4299840" y="4746240"/>
                  <a:ext cx="1920240" cy="363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7 Lake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4299840" y="4746240"/>
                  <a:ext cx="1920240" cy="363240"/>
                </a:xfrm>
                <a:prstGeom prst="rect">
                  <a:avLst/>
                </a:prstGeom>
                <a:noFill/>
                <a:ln cap="sq" w="0">
                  <a:solidFill>
                    <a:srgbClr val="c0c0c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0" name=""/>
              <p:cNvGrpSpPr/>
              <p:nvPr/>
            </p:nvGrpSpPr>
            <p:grpSpPr>
              <a:xfrm>
                <a:off x="6220800" y="4746240"/>
                <a:ext cx="1471320" cy="363240"/>
                <a:chOff x="6220800" y="4746240"/>
                <a:chExt cx="1471320" cy="3632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6220800" y="4746240"/>
                  <a:ext cx="1471320" cy="363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Masondale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6220800" y="4746240"/>
                  <a:ext cx="1471320" cy="363240"/>
                </a:xfrm>
                <a:prstGeom prst="rect">
                  <a:avLst/>
                </a:prstGeom>
                <a:noFill/>
                <a:ln cap="sq" w="0">
                  <a:solidFill>
                    <a:srgbClr val="c0c0c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3" name=""/>
              <p:cNvGrpSpPr/>
              <p:nvPr/>
            </p:nvGrpSpPr>
            <p:grpSpPr>
              <a:xfrm>
                <a:off x="2370600" y="5109840"/>
                <a:ext cx="1928880" cy="363240"/>
                <a:chOff x="2370600" y="5109840"/>
                <a:chExt cx="1928880" cy="36324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2370600" y="5109840"/>
                  <a:ext cx="1928880" cy="363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Solton's Marine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2370600" y="5109840"/>
                  <a:ext cx="1928880" cy="363240"/>
                </a:xfrm>
                <a:prstGeom prst="rect">
                  <a:avLst/>
                </a:prstGeom>
                <a:noFill/>
                <a:ln cap="sq" w="0">
                  <a:solidFill>
                    <a:srgbClr val="c0c0c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6" name=""/>
              <p:cNvGrpSpPr/>
              <p:nvPr/>
            </p:nvGrpSpPr>
            <p:grpSpPr>
              <a:xfrm>
                <a:off x="4299840" y="5109840"/>
                <a:ext cx="1920240" cy="363240"/>
                <a:chOff x="4299840" y="5109840"/>
                <a:chExt cx="1920240" cy="363240"/>
              </a:xfrm>
            </p:grpSpPr>
            <p:sp>
              <p:nvSpPr>
                <p:cNvPr id="187" name=""/>
                <p:cNvSpPr/>
                <p:nvPr/>
              </p:nvSpPr>
              <p:spPr>
                <a:xfrm>
                  <a:off x="4299840" y="5109840"/>
                  <a:ext cx="1920240" cy="363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867 Bay Bridge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4299840" y="5109840"/>
                  <a:ext cx="1920240" cy="363240"/>
                </a:xfrm>
                <a:prstGeom prst="rect">
                  <a:avLst/>
                </a:prstGeom>
                <a:noFill/>
                <a:ln cap="sq" w="0">
                  <a:solidFill>
                    <a:srgbClr val="c0c0c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9" name=""/>
              <p:cNvGrpSpPr/>
              <p:nvPr/>
            </p:nvGrpSpPr>
            <p:grpSpPr>
              <a:xfrm>
                <a:off x="6220800" y="5109840"/>
                <a:ext cx="1471320" cy="363240"/>
                <a:chOff x="6220800" y="5109840"/>
                <a:chExt cx="1471320" cy="363240"/>
              </a:xfrm>
            </p:grpSpPr>
            <p:sp>
              <p:nvSpPr>
                <p:cNvPr id="190" name=""/>
                <p:cNvSpPr/>
                <p:nvPr/>
              </p:nvSpPr>
              <p:spPr>
                <a:xfrm>
                  <a:off x="6220800" y="5109840"/>
                  <a:ext cx="1471320" cy="363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Glenview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6220800" y="5109840"/>
                  <a:ext cx="1471320" cy="363240"/>
                </a:xfrm>
                <a:prstGeom prst="rect">
                  <a:avLst/>
                </a:prstGeom>
                <a:noFill/>
                <a:ln cap="sq" w="0">
                  <a:solidFill>
                    <a:srgbClr val="c0c0c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2" name=""/>
              <p:cNvGrpSpPr/>
              <p:nvPr/>
            </p:nvGrpSpPr>
            <p:grpSpPr>
              <a:xfrm>
                <a:off x="2370600" y="5473800"/>
                <a:ext cx="1928880" cy="363240"/>
                <a:chOff x="2370600" y="5473800"/>
                <a:chExt cx="1928880" cy="363240"/>
              </a:xfrm>
            </p:grpSpPr>
            <p:sp>
              <p:nvSpPr>
                <p:cNvPr id="193" name=""/>
                <p:cNvSpPr/>
                <p:nvPr/>
              </p:nvSpPr>
              <p:spPr>
                <a:xfrm>
                  <a:off x="2370600" y="5473800"/>
                  <a:ext cx="1928880" cy="363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The Reef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2370600" y="5473800"/>
                  <a:ext cx="1928880" cy="363240"/>
                </a:xfrm>
                <a:prstGeom prst="rect">
                  <a:avLst/>
                </a:prstGeom>
                <a:noFill/>
                <a:ln cap="sq" w="0">
                  <a:solidFill>
                    <a:srgbClr val="c0c0c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5" name=""/>
              <p:cNvGrpSpPr/>
              <p:nvPr/>
            </p:nvGrpSpPr>
            <p:grpSpPr>
              <a:xfrm>
                <a:off x="4299840" y="5473800"/>
                <a:ext cx="1920240" cy="363240"/>
                <a:chOff x="4299840" y="5473800"/>
                <a:chExt cx="1920240" cy="363240"/>
              </a:xfrm>
            </p:grpSpPr>
            <p:sp>
              <p:nvSpPr>
                <p:cNvPr id="196" name=""/>
                <p:cNvSpPr/>
                <p:nvPr/>
              </p:nvSpPr>
              <p:spPr>
                <a:xfrm>
                  <a:off x="4299840" y="5473800"/>
                  <a:ext cx="1920240" cy="363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92 East Bay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4299840" y="5473800"/>
                  <a:ext cx="1920240" cy="363240"/>
                </a:xfrm>
                <a:prstGeom prst="rect">
                  <a:avLst/>
                </a:prstGeom>
                <a:noFill/>
                <a:ln cap="sq" w="0">
                  <a:solidFill>
                    <a:srgbClr val="c0c0c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8" name=""/>
              <p:cNvGrpSpPr/>
              <p:nvPr/>
            </p:nvGrpSpPr>
            <p:grpSpPr>
              <a:xfrm>
                <a:off x="6220800" y="5473800"/>
                <a:ext cx="1471320" cy="363240"/>
                <a:chOff x="6220800" y="5473800"/>
                <a:chExt cx="1471320" cy="363240"/>
              </a:xfrm>
            </p:grpSpPr>
            <p:sp>
              <p:nvSpPr>
                <p:cNvPr id="199" name=""/>
                <p:cNvSpPr/>
                <p:nvPr/>
              </p:nvSpPr>
              <p:spPr>
                <a:xfrm>
                  <a:off x="6220800" y="5473800"/>
                  <a:ext cx="1471320" cy="363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Woodview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6220800" y="5473800"/>
                  <a:ext cx="1471320" cy="363240"/>
                </a:xfrm>
                <a:prstGeom prst="rect">
                  <a:avLst/>
                </a:prstGeom>
                <a:noFill/>
                <a:ln cap="sq" w="0">
                  <a:solidFill>
                    <a:srgbClr val="c0c0c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01" name=""/>
            <p:cNvSpPr/>
            <p:nvPr/>
          </p:nvSpPr>
          <p:spPr>
            <a:xfrm>
              <a:off x="2362320" y="1828800"/>
              <a:ext cx="5339880" cy="4016160"/>
            </a:xfrm>
            <a:prstGeom prst="rect">
              <a:avLst/>
            </a:prstGeom>
            <a:noFill/>
            <a:ln cap="sq"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Presented by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bby McDona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4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mail addr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4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3300"/>
                </a:solidFill>
                <a:uFillTx/>
                <a:latin typeface="Times New Roman"/>
                <a:hlinkClick r:id="rId1"/>
              </a:rPr>
              <a:t>BobbyMcDonaldA3@Yahoo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4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b p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4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3300"/>
                </a:solidFill>
                <a:uFillTx/>
                <a:latin typeface="Times New Roman"/>
                <a:hlinkClick r:id="rId2"/>
              </a:rPr>
              <a:t>http://www.geocities.com/BobbyMcDonaldA3/index.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05T20:39:11Z</dcterms:created>
  <dc:creator>AMD</dc:creator>
  <dc:description/>
  <dc:language>en-US</dc:language>
  <cp:lastModifiedBy> Debbie</cp:lastModifiedBy>
  <dcterms:modified xsi:type="dcterms:W3CDTF">2002-05-05T20:55:52Z</dcterms:modified>
  <cp:revision>4</cp:revision>
  <dc:subject/>
  <dc:title>Fun-N-Sun Sojourn</dc:title>
</cp:coreProperties>
</file>