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45E-784F-4362-83B5-69E81C93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312-4CAB-4EFD-B52C-88F242C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6F6-A22E-4680-AB77-51F2A18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2C7-1408-441C-B1D1-38444D14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6993-C0A4-4A11-A57C-AB80C045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7A17-31DF-446B-BD69-F1BE9E59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4ACB-EFDC-4A79-A648-2A857F11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5A6A-6247-47DA-B8BC-01346D36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CAC1-BEA8-46E9-8D16-B432B428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858-ABCD-47C1-85BE-47571A9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FB72-7605-4193-8EF5-EA43AD9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E97-05B6-49DB-A9F6-7E40FE2B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0989-6453-41B5-9206-BBD0D82B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D8CE-6EEB-4545-8903-384D5B3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C527-B1C1-4F9C-9F71-03D48C85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C26C-6445-45AA-921E-C025976C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FA62-DD3B-4F2D-B439-BE9B1421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035-8637-413C-9FD5-A32ABF9C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D09-9925-4317-BC45-355A2A4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2F0-E3EF-47DA-A5C9-27CF7C51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27B-AAA5-4D6E-905B-C92D366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F51-797C-419B-BCEC-20189D2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125-2423-4B73-A498-A18B9FF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FFF-62BC-4B3D-B2A1-0CB3E98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5F1-7958-464A-B2F6-C98C0177E39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1F2-5681-49D6-957E-99DBBC6036F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Effective Study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99840" y="2693880"/>
            <a:ext cx="66294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 for College Success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resented b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ook" descr="book"/>
          <p:cNvPicPr/>
          <p:nvPr/>
        </p:nvPicPr>
        <p:blipFill>
          <a:blip r:embed="rId1"/>
          <a:stretch/>
        </p:blipFill>
        <p:spPr>
          <a:xfrm>
            <a:off x="3429000" y="4876920"/>
            <a:ext cx="2647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Your Tim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ke a weekly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st specific study times for all subje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n time for relaxation and sle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pread study time throughout the wee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ick to your schedu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se your schedule when necessa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tending Cla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 in the front of the roo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k questions at appropriate tim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ke no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phrase ideas in your own w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view immediately after cla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ding Your Textboo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rvey th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d the summary and chapter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ad the chapter careful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ite the material in your own wor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rite brief notes in the margi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view the entire assig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18:42Z</dcterms:created>
  <dc:creator>AMD</dc:creator>
  <dc:description/>
  <dc:language>en-US</dc:language>
  <cp:lastModifiedBy> Debbie</cp:lastModifiedBy>
  <dcterms:modified xsi:type="dcterms:W3CDTF">2002-05-05T21:03:39Z</dcterms:modified>
  <cp:revision>3</cp:revision>
  <dc:subject/>
  <dc:title>Effective Study Skills</dc:title>
</cp:coreProperties>
</file>