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4F3-D1AD-4329-98AD-07CF2B74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443-CB0B-4EF4-A0F7-E034BC43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F3E-6934-4955-B79E-AF89303C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355-B3E7-4BBB-966A-66139644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E17-F35B-47BF-8D4E-F101E553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9C6-C47A-44D8-9FBE-BCEE2A5C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2FE-4DE1-4496-8222-08C6882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45E-DE11-41E7-AE12-DEC38CC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7E7-8FCB-4B3A-AD2B-5BE99E5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038-1CFE-4677-9328-FE2EEF4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1D2-4D3C-4DC5-A54F-C3C190B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AF8-7625-4381-9CE0-3FE1C99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CD9-E494-440B-9668-6400FB6C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kg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914400"/>
            <a:ext cx="914400" cy="457200"/>
          </a:xfrm>
          <a:custGeom>
            <a:avLst/>
            <a:gdLst>
              <a:gd name="textAreaLeft" fmla="*/ 376560 w 914400"/>
              <a:gd name="textAreaRight" fmla="*/ 537840 w 9144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03:20:34Z</dcterms:created>
  <dc:creator>JOSE BENIGNO PITTI</dc:creator>
  <dc:description/>
  <dc:language>en-US</dc:language>
  <cp:lastModifiedBy>JOSE BENIGNO PITTI</cp:lastModifiedBy>
  <dcterms:modified xsi:type="dcterms:W3CDTF">1999-11-25T03:46:14Z</dcterms:modified>
  <cp:revision>1</cp:revision>
  <dc:subject/>
  <dc:title>Sin título de diapositiva</dc:title>
</cp:coreProperties>
</file>