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21A-BF5E-4066-9F44-A8758716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D97-23D2-4808-AC9D-F33003BE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AF7-F71F-4F1A-84FE-A15D8F61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5BC-D63B-40A0-8E6B-A4392FAE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09A4-7685-4378-ADA9-8425CB76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EED4-A969-4665-AC67-65873812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2602-74AC-4218-8FB4-C25CC6D8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CD65-8475-4CB9-8B70-6F68D014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95F4-6E89-4974-885A-39047C9D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0DAB-69A3-493C-AC8C-F8DB67F6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429A-EBCD-4855-8CBA-5A29D2D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882-93B0-40BF-B079-4BDC5B9B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7B58-F35D-4BEE-95C2-3CA74962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4692-1E73-46DC-98EE-704A617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A388-4157-431D-ACCC-B37C6FCD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B3F2-29DA-40A0-988A-3541D9D1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FD05-80A3-4699-B908-9D84B586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6B6-0C9E-4A85-A83A-E37FAE94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B54-9E45-4083-A58C-545A621B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86C-A894-4151-8EAF-5FAC5FB5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09F-4E82-4454-A254-B6104C5E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8AC-8843-4BD0-B6C3-7A0BEB57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A96-D103-4881-BC48-42493F1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E0E-B5EC-446F-9494-035D449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AFFA-FD20-4F9D-AE61-CB9A037CD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B704-9D0A-4D8C-A775-EFB524D6A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47920" y="1066680"/>
            <a:ext cx="5975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choolBoy"/>
              </a:rPr>
              <a:t>Vacuol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choolBoy"/>
              <a:ea typeface="SchoolBoy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191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The Most Important Parts of the Cell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548784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Mark Cru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3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02160" y="41911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Eve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1600" y="419112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Perio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733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 Division of Cell Incorpora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45720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bdivisions of Vacuo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9092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umbing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waterteach2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2728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3920" y="3429000"/>
            <a:ext cx="452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ste Maintenance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44197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ructural Support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1080" y="3049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umbing Divi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2057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sponsible for water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6520" y="2819520"/>
            <a:ext cx="50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ntributes to storage of foo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5053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gment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2670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xpel excess wa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33720" y="0"/>
            <a:ext cx="45799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ste Stor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057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hold waste 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971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cess and break down by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9625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tects cell from cont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304920"/>
            <a:ext cx="6248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uctural Suppor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rge central vacuole in plant ce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124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urgor pressure supports cell wa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expands and contra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7652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l Surviv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62520" y="1905120"/>
          <a:ext cx="4876560" cy="252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905120"/>
                    <a:ext cx="487656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2209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constitute large portions of the ce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24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Division provides invaluable servi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5:51:38Z</dcterms:created>
  <dc:creator>VBPS</dc:creator>
  <dc:description/>
  <dc:language>en-US</dc:language>
  <cp:lastModifiedBy>Enriq</cp:lastModifiedBy>
  <dcterms:modified xsi:type="dcterms:W3CDTF">2001-10-19T00:25:00Z</dcterms:modified>
  <cp:revision>8</cp:revision>
  <dc:subject/>
  <dc:title>No Slide Title</dc:title>
</cp:coreProperties>
</file>