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0E2-E142-4618-AD8D-1A318A5B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FAD-444B-4DA6-A974-C829C3AB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606-9F32-4E8B-9285-0D1BDE1E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24C-83A3-49E3-89C0-95D2C4CE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BA5-7214-46AA-98A2-799B46F1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D56A-4141-41F0-AAC7-0A420483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883-EAF6-4517-B5D8-F6F37EB3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2E1-0BC3-4398-BF11-D995F7E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E24-3276-42D2-B365-DD96F0A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3E96-01DA-405F-A1DB-080B15F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70C6-0EE0-452B-966A-D15BF50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CAA-F0D5-46B8-B8C7-FD7791D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6227-708A-48C4-9417-D890A93B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0C0-2922-406D-B3FE-631F6C7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EB0-38FD-4E8D-961A-9E69BED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C31A-CF9D-489E-8667-16C2A034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03A-DB6C-49A0-AEAD-CC9D6752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290-8756-4482-A5DB-BD318FE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0B9-ACA1-4508-8232-6745072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7AB-069D-4E70-833D-B59B121B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47B-296D-442E-8374-2054722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BB0-BE2C-4039-A559-78662B2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01D-A9A1-4B7B-B6E2-94E06FBE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863-6BFE-46B0-820F-4948985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F2E-0091-4551-A54A-BCC46E9E2F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472C-AE7D-45A8-A664-191C848E89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++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Programm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 in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line comments start with ‘/*’ and end with ‘*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comments start with ‘/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tput Manipul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w() : can be inserted directly into a cout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 Cout &lt;&lt; “Name:” &lt;&lt; setw(10) &lt;&lt; “Jeev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display Name: then 10 spaces and then Jeev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 Manipulator: Like pressing 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ut &lt;&lt; “Name” &lt;&lt; end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cklash  Charac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backspace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tab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s a bell(alert)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endl, new lin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 of OO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or letter used to indicate some special operation during ex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opera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-  *  /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ry 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A , --A , A--, 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al and Logic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ompare two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itional Opera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f cond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&gt;b?a: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 conversion in expres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convert value of a variable while performing an ope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t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 b=1.12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(int)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 State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 of a=a+1 you can use a*=1 same with -,*,% and 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– each program is designed around the data to be processed and Object Oriented Approach defines the relationship between data and its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ogram may be divided in to many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s used in C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s(Upper and Lower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 Type(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ger(-128 to 1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(-32768 to 3276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integer(-2147483648 to 214748364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Point(flo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mal form(integers with decim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nent form(e.g 1234 e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(Cont…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Type(char):  Non-numeric, numbers are not counted a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 Type(void) : Represents of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++ Toke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characters that logically belong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rs : Symbolic names used by the progra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words : Reserved word for c+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 : A number that doesn’t change during the execution of a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 : A Location in computer’s memory that is given a symbolic name and can store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ard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ffered version of ce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 of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include &lt;header file 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9:13:14Z</dcterms:created>
  <dc:creator>a</dc:creator>
  <dc:description/>
  <dc:language>en-US</dc:language>
  <cp:lastModifiedBy>a</cp:lastModifiedBy>
  <dcterms:modified xsi:type="dcterms:W3CDTF">2001-02-01T19:43:36Z</dcterms:modified>
  <cp:revision>3</cp:revision>
  <dc:subject/>
  <dc:title>C++</dc:title>
</cp:coreProperties>
</file>