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5A2-0FE0-487E-B354-630400E5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8D5E-BFA9-4836-A81B-C632E72C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7EB-1458-45E3-B630-BB1D723A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0B9-9F2B-41BF-B591-53ACAACE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AF5-E757-4432-8921-D8E84EDD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A66-4C6C-48BD-9ED5-38166CA0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B64-4D64-474A-8E49-71895CF4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922-4ED0-43A2-9A33-8873DC2B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14F-91DD-483B-A04F-5DDEEC94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78F1-718A-44FF-ABF0-E98A605D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446-4B24-4DB1-AD3F-E149CF8F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1E29-7448-4972-89A0-FE96E117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3BD7-CABA-466A-97FE-FEF23D84C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al Number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al is 0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ng binary to octal is eas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1001 can be grouped in two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0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each group with its octal equi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3 and 1 we get 31 as the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we write it a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1001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31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’t forget to go through the data representation chapter in your 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types of number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mal numbers(0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numbers(represented in combinations of 1s and 0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xadecimal numbers(0-9 A-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ing Binary to Deci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each 1s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s 1 from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each 1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positio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 add all the 1s re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10001001 will be calculated a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8+8+1     so the answer is : 1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ting from Decimal to Bi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on dividing the number by 2, the remainder in reverse is your binary dig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125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62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31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15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7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3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1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27432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27432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505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343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4724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5562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of Binary, Decimal &amp; Hexadec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915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deci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sion of Fractional Decimal to Fractional Bi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fractional decimal b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 will b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 an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im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integer part in a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action part becomes the new 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the process till the fraction part is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ger part column is your fractional binary dig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fractional decimal to fractional bi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23432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al Decimal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al part of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 part of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 by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o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o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441360" y="4227480"/>
            <a:ext cx="82454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 the original number that was 0.625 was converted into a fractional binary number 0.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should be written as (0.625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0.101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sion of fractional binary to fractional dec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out binary number as negative powers of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each power of two into its decimal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se to give the decimal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number : 0.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2T06:36:33Z</dcterms:created>
  <dc:creator>a</dc:creator>
  <dc:description/>
  <dc:language>en-US</dc:language>
  <cp:lastModifiedBy>Ritesh</cp:lastModifiedBy>
  <dcterms:modified xsi:type="dcterms:W3CDTF">2001-03-09T17:06:46Z</dcterms:modified>
  <cp:revision>6</cp:revision>
  <dc:subject/>
  <dc:title>Number Systems</dc:title>
</cp:coreProperties>
</file>