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1B8-6ED8-4BF7-9271-F981B524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29E-5EA5-4063-817D-785D3014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9DF-6958-4449-9D40-2C022A6B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7EF-D459-43BD-9405-C07124D3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4FF-8004-42F0-B60A-E9F257C5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176-1980-43A6-9D85-E8EA3E7A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88B-9C6F-4B19-8DFE-18F5132E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47B-14C1-4237-B462-C60DBD28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306-A188-4032-9796-8EAD406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74C-F7EF-44C0-9415-2056FE7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0A6-E0B5-4B9C-BF5A-C9EC42D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DDE-7D2E-40BB-9B87-CD0DC214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0CBC-85EA-439F-A6D5-F97A7B46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Variables and Exper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lean variable can have only two values: true or false, 1 or 0, closed switch or open sw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boolean variable are binary or two valued. A boolean variable is also known as lit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y write a simple boolean expression as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A AND B OR (NOT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X is the resulting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 , C ar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expression logical operators are represented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  (s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’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boolean expression will b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A+B.C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while solving the Complex Boolean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ould be confusion while evaluating complex Boolean expression, as to which Boolean operator should be applied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ts take the following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a + b’ .  c  +  d’  +  b’  .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blem can be solved by following the order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operators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LE set :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 (This operator has high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   (This operator has the low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LE set :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expressions in paren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all the NOT operator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erform all AND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Perform all the OR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Complex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Solve the following expression using the rules discu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’ . c + d’ + b’ 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3124080"/>
            <a:ext cx="762120" cy="457200"/>
            <a:chOff x="1523880" y="3124080"/>
            <a:chExt cx="762120" cy="457200"/>
          </a:xfrm>
        </p:grpSpPr>
        <p:sp>
          <p:nvSpPr>
            <p:cNvPr id="286" name=""/>
            <p:cNvSpPr/>
            <p:nvPr/>
          </p:nvSpPr>
          <p:spPr>
            <a:xfrm>
              <a:off x="152388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388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448640" y="3592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82000" y="358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2120" y="3048120"/>
            <a:ext cx="7920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4956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840" y="4572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5334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0481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3200" y="5486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057400" y="5867280"/>
            <a:ext cx="2361240" cy="381240"/>
            <a:chOff x="2057400" y="5867280"/>
            <a:chExt cx="2361240" cy="381240"/>
          </a:xfrm>
        </p:grpSpPr>
        <p:sp>
          <p:nvSpPr>
            <p:cNvPr id="303" name=""/>
            <p:cNvSpPr/>
            <p:nvPr/>
          </p:nvSpPr>
          <p:spPr>
            <a:xfrm>
              <a:off x="205740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7400" y="6248520"/>
              <a:ext cx="236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864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67600" y="646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15640" y="2286000"/>
            <a:ext cx="44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solve the Part 1, Part 2, Part 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4 and then 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22860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6760" y="325116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99520" y="40226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p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31440" y="40226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1000"/>
            <a:ext cx="878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ulates and Theorems of Boolean Algeb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logical states that can have the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alse)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rue)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+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·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28600" y="2116080"/>
          <a:ext cx="7605720" cy="1770120"/>
        </p:xfrm>
        <a:graphic>
          <a:graphicData uri="http://schemas.openxmlformats.org/drawingml/2006/table">
            <a:tbl>
              <a:tblPr/>
              <a:tblGrid>
                <a:gridCol w="527040"/>
                <a:gridCol w="2685960"/>
                <a:gridCol w="2632320"/>
                <a:gridCol w="1760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0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1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’ =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’ = 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 = B +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B = B ·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t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+ C) = (A + B) +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· C) = (A · B) ·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· C) = (A + B) · (A +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30840" y="3155400"/>
            <a:ext cx="1467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" y="4352760"/>
          <a:ext cx="8977320" cy="2200320"/>
        </p:xfrm>
        <a:graphic>
          <a:graphicData uri="http://schemas.openxmlformats.org/drawingml/2006/table">
            <a:tbl>
              <a:tblPr/>
              <a:tblGrid>
                <a:gridCol w="547560"/>
                <a:gridCol w="4084920"/>
                <a:gridCol w="2408040"/>
                <a:gridCol w="19368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MPOTENT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1 =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0 = 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ce of 0 an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 ·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 A +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’ · B) = A +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A’ + B) = A ·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uted Theo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· B) + (A’ · C) + (B · C) = (A · B) + (A’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+ B]’ =  A’  .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· B]’ = A’ +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Morgan's theore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ms of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are very important for the manipulation of Boolean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1: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oolean algebra is IDEMPO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Idempotent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allows the dominance of 0 and 1 su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 a  +  1  =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0  =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ABSORP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(a  .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(a  +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absorption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INVOL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’)’  = 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, a friend of Boole, worked extensively in logic and mathematics, he contributed the following two very important theor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It says that “ The complement of a sum equals the product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+  b)’  =  a’  .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This Theorem says that “The complement of the product equals the sum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.  b)’  =  a’  +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can be deduced from the basic postulates of the Boolean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a + (a’ . b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. b +  a’ . c  +  b . c  =  a b  +   a’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+ b) . (a + c) = a  +  b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 behind Boolean Algebra is that the answers to its equations are eit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or 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T is used to represen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an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F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itching circuits and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 of Boolean Algebra was used to analyze switching circuits by a mathematician Claude Shannon in 1938 at Bell Labora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circuit is composed of interconnected switches. A switch can either be closed (Hence electrical current passes through it, as shown in Fig-1) and when the switch is open the (current cannot pass through it, as shown in Fig-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33412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5334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9240" y="62485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5960" y="624852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575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433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10160" y="578016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680" y="5116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86520" y="60087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6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/OR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us consider a situation as shown in Fig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re we have two switches S1 and S2 connected in series with a battery and electric bulb 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s determine the flow of current with regard to the following switch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6880" y="3657600"/>
            <a:ext cx="7761600" cy="2630520"/>
            <a:chOff x="686880" y="3657600"/>
            <a:chExt cx="7761600" cy="2630520"/>
          </a:xfrm>
        </p:grpSpPr>
        <p:sp>
          <p:nvSpPr>
            <p:cNvPr id="63" name=""/>
            <p:cNvSpPr/>
            <p:nvPr/>
          </p:nvSpPr>
          <p:spPr>
            <a:xfrm flipV="1">
              <a:off x="5175000" y="4001760"/>
              <a:ext cx="380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346200" y="3925440"/>
              <a:ext cx="456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0920" y="6211800"/>
              <a:ext cx="44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126880" y="5450040"/>
              <a:ext cx="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74600" y="5450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22320" y="529740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4600" y="51451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46000" y="4992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126880" y="4306680"/>
              <a:ext cx="144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68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56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0800" y="43070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46600" y="4307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46600" y="5525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1920" y="4822920"/>
              <a:ext cx="516960" cy="69372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18000" y="4687920"/>
              <a:ext cx="9140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698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340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986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0852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6880" y="49561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71720" y="488016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3669840" y="4212000"/>
              <a:ext cx="876240" cy="243792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7920"/>
                <a:gd name="textAreaBottom" fmla="*/ 171252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2160" y="500400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03200" y="3773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84280" y="3697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5480" y="36576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0320" y="36972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40640" y="6324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920" y="640080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onnected in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s the current flows through the switches S1 and S2, lets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1)  Where S1 = Open  and  S2 = O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2)  When S1 = Open  and 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3)  When S1 = Closed and  S2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4)  When S1 = Closed and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Yes   (True)    and  0 = No (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800" y="39765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 of the abov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4495680"/>
            <a:ext cx="46479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0292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480" y="4648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7040" y="4608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640" y="4608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low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40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4392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94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37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06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000" y="5827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0480" y="5751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3920" y="5827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00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2880" y="6132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6920" y="3954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ifie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56200" y="4473720"/>
            <a:ext cx="38656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56200" y="5006880"/>
            <a:ext cx="380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152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4840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3680" y="4626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640" y="458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4586400"/>
            <a:ext cx="16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Flow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51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37680" y="504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29720" y="508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512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120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5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7680" y="572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5800" y="6186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9124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0360" y="618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symbolic logic, the AND operator is known as :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logical AND or logical produc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An alternative term for logical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ND is conjug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truth table is nothing but the combination of all possible inputs and their effect on the output(s) of a switching circu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151160"/>
            <a:ext cx="4648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684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056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672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0480" y="4227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688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6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72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7060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803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6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8644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4712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5648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296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296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6240" y="36576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2096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S1   AND   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another switching circuit, here the switches are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0560" y="2666880"/>
            <a:ext cx="7936560" cy="3505320"/>
            <a:chOff x="610560" y="2666880"/>
            <a:chExt cx="7936560" cy="3505320"/>
          </a:xfrm>
        </p:grpSpPr>
        <p:sp>
          <p:nvSpPr>
            <p:cNvPr id="161" name=""/>
            <p:cNvSpPr/>
            <p:nvPr/>
          </p:nvSpPr>
          <p:spPr>
            <a:xfrm flipV="1">
              <a:off x="426708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267080" y="3809520"/>
              <a:ext cx="3812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6728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6172200"/>
              <a:ext cx="44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203560" y="5181480"/>
              <a:ext cx="1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98640" y="49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092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2320" y="4648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03560" y="3697200"/>
              <a:ext cx="144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03560" y="3697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37120" y="3697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2920" y="3697200"/>
              <a:ext cx="0" cy="9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622920" y="5334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9400" y="4572000"/>
              <a:ext cx="506520" cy="75240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94320" y="449568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656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8484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0560" y="4648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0360" y="47242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3752280" y="4324320"/>
              <a:ext cx="876240" cy="243828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8280"/>
                <a:gd name="textAreaBottom" fmla="*/ 17125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4960" y="518148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79520" y="3164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0960" y="3087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3960" y="26668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40640" y="42670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312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2920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4191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29200" y="4191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11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ee how the current flows and what is the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 = S1  OR 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808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2424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7840" y="3657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440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4120" y="4572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39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39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848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41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432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41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204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357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57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57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4440" y="30481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w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6744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96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26120" y="3657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37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348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96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960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784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720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368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368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3140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411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724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72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3440" y="30481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0080" y="232236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 0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l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228600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b     0 = No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urrent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5943600"/>
            <a:ext cx="9420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nce OR connective is termed a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or logical su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An alternative ter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is Disjunc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us take a switching circuit where S is connected in this circuit in such a way that if it is Open then the current flows through the bulb and vise-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 Not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symbolic logic the NOT operator is termed as logical not or logical negative or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" y="44578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9800" y="4457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b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08320" y="327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43000" y="3390840"/>
            <a:ext cx="3657240" cy="2285640"/>
            <a:chOff x="1143000" y="3390840"/>
            <a:chExt cx="3657240" cy="2285640"/>
          </a:xfrm>
        </p:grpSpPr>
        <p:sp>
          <p:nvSpPr>
            <p:cNvPr id="247" name=""/>
            <p:cNvSpPr/>
            <p:nvPr/>
          </p:nvSpPr>
          <p:spPr>
            <a:xfrm>
              <a:off x="2866680" y="4558680"/>
              <a:ext cx="2689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46040" y="5607720"/>
              <a:ext cx="29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396800" y="4914720"/>
              <a:ext cx="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5280" y="4914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3760" y="477648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95280" y="4637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3000" y="449928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396800" y="3875400"/>
              <a:ext cx="1080" cy="5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6800" y="3875760"/>
              <a:ext cx="25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6200" y="3875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3400" y="3875760"/>
              <a:ext cx="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347720" y="50169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0160" y="4344840"/>
              <a:ext cx="344880" cy="63036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0760" y="4222080"/>
              <a:ext cx="609480" cy="9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2720" y="487872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72720" y="446328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15880" y="33908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26080" y="411660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3480" y="38397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3480" y="501732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324480" y="3924360"/>
            <a:ext cx="2438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43815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3924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6764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6292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6800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96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06328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3960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8040" y="3375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49:31Z</dcterms:created>
  <dc:creator>aa</dc:creator>
  <dc:description/>
  <dc:language>en-US</dc:language>
  <cp:lastModifiedBy>Ritesh</cp:lastModifiedBy>
  <dcterms:modified xsi:type="dcterms:W3CDTF">2001-05-16T18:26:20Z</dcterms:modified>
  <cp:revision>23</cp:revision>
  <dc:subject/>
  <dc:title>Boolean Algebra</dc:title>
</cp:coreProperties>
</file>