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C6A-B9F0-4870-97A1-D1F1A313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ABC-DCAF-4540-AF0D-F8351807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9AC-BEE9-4CA5-B4BF-6AA06547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47C-2CE1-4635-8243-2C7EBCCC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80C-9E91-437F-9CFA-43A94467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235-E6D5-4DD4-BA34-9DD866E4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8C8-360A-4781-AD88-0BF7AD37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62C7-7BC8-418E-93C3-C2CBEDC0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711-D86F-4A92-BC45-C3F2053D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379-F3AB-4ADC-BE7F-759D660A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64E-7515-454B-A183-571B5F99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850-1124-4750-BDB6-ADBD5882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89B6-893E-4652-B95E-FD3B8A5B6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 and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-Mys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ors &amp; De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types of an integer variable. You can define the variable and then assign a value to it later in th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t we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=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you can define it and immediately initializ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t weight=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ructor is a special function that is used to initialize the member of a class so that later you can de-initialize it(This results in efficient memory handlin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ructor function has the same name as the class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tructor function is used to destroyed the initialized variable form the mem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uctor function has the same name as the constructor function except that it has a ~ symbol before the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variables and related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used for creating a new data type, that has its own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tsa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tswe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ow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defining objects from defined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Frisky;  // Use this statement to define an object called Frisky that is of type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 vs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ver give a pet name to the defination of Cat, but you usually give a pet name to an animal that is of type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way c++ differentiates between classes and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dea of a cat is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risky is an animal of type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ing Class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cess the class members you use the same method as you used with stru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f I want to access the weight of Fri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use the following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sky.weight=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ame way if I required to call the function Meow(), then I will use the following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sky.Me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 to Objects not to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++ you always assign values to variables not to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you never wr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= 5;  // Compiler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, you have to define a variable using int data type and then assign a value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Int 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5;      or int x=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ame way you will never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.Age=5;    //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you will declare a variable of type cat and then do it the following 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Fri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sky.Age=8;  //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Vs 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efault everything is Priv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accessed only within the methods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you cannot wr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sky.itsAge=2; //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you have to use a function that is declared as public and then access itsAge throug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6:22:42Z</dcterms:created>
  <dc:creator>Ritesh</dc:creator>
  <dc:description/>
  <dc:language>en-US</dc:language>
  <cp:lastModifiedBy>Ritesh</cp:lastModifiedBy>
  <dcterms:modified xsi:type="dcterms:W3CDTF">2001-05-10T08:20:14Z</dcterms:modified>
  <cp:revision>5</cp:revision>
  <dc:subject/>
  <dc:title>Classes and Objects</dc:title>
</cp:coreProperties>
</file>