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F3A4-2E67-464C-8780-A9BB0F858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F9C4-3124-4D4D-BCE9-1A2D971CA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1850-7D81-4629-9C55-2CB007570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FCFB-02F0-40B5-A847-1958FB6C6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EDDF-BA8A-407D-B8A8-B7C7C0D0E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B0B0-658E-4702-9400-BC0708AD6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F833-BFCB-4DEB-B13D-306972F1C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0F11-81DA-4974-8C10-AE9BB9695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A4DE-78FD-4228-9EE3-653ECB9DB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B06D-9E4A-40BE-B9BE-B652F572E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A4C8-D7D6-4173-8DF5-8084701DB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991B-7C5A-4CFA-A616-62FDF5A8F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02F79-4A90-4432-A985-77B217F2C1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s in C++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tructu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roup of related items of different typ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ke arrays but can have multiple types of el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 you cannot have a single array that will store name, age and marks but you can define a structure that will fulfill the sa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create your own datatype using structu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define a structu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ct student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r name[20]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roll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sub1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sub2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sub3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use a structu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program you can define a variable that uses the type you defined using the structure for example, we defined a structure named studend, not that structure becomes like a datatype for me. So I define a variable of type “student” as follow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 stud1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defining a variable of the structure typ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use input output statement like shown below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n &gt;&gt; stud1.nam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n &gt;&gt; stud1.roll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nt &gt;&gt; stud1.sub1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nt &gt;&gt; stud1.sub2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nt &gt;&gt; stud1.sub3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 we use the structured data type for defining an arra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5T16:52:47Z</dcterms:created>
  <dc:creator>secretary</dc:creator>
  <dc:description/>
  <dc:language>en-US</dc:language>
  <cp:lastModifiedBy>secretary</cp:lastModifiedBy>
  <dcterms:modified xsi:type="dcterms:W3CDTF">1999-02-15T16:53:45Z</dcterms:modified>
  <cp:revision>1</cp:revision>
  <dc:subject/>
  <dc:title>Structures in C++</dc:title>
</cp:coreProperties>
</file>